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7DE-2616-41AD-9A05-FF6EDC41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8A7-A0C7-463B-8FD8-337D59A0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8AA-F483-49AE-948E-6CDD5CC1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7B9-2370-43AF-95D9-FB5B557B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166-853C-4505-95D2-312B40D8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9D9-E41E-4578-9566-DCC35EDE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31A-194E-42C5-B0AE-7B71D691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1AC-9AD4-46CA-B703-61D63260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5F3-6AC4-407D-8172-E88F17C2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42A-B240-4913-8E1A-606B11B1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670-564C-4245-826D-3EE602A4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7A4-D8BF-4AEF-944F-5A4F6592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00BA-4570-4852-8418-27204297C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2 October 26, 201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81360" y="3733920"/>
            <a:ext cx="598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numbers simplifying when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show your stuff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/8 x 3/y                x=5   y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3/x x 6 y/9           x=4  y=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71720" y="4483080"/>
            <a:ext cx="1009440" cy="866880"/>
          </a:xfrm>
          <a:custGeom>
            <a:avLst/>
            <a:gdLst/>
            <a:ahLst/>
            <a:rect l="l" t="t" r="r" b="b"/>
            <a:pathLst>
              <a:path w="2803" h="2407">
                <a:moveTo>
                  <a:pt x="3597" y="12750"/>
                </a:moveTo>
                <a:cubicBezTo>
                  <a:pt x="3597" y="12975"/>
                  <a:pt x="3601" y="13200"/>
                  <a:pt x="3572" y="13419"/>
                </a:cubicBezTo>
                <a:cubicBezTo>
                  <a:pt x="3572" y="13452"/>
                  <a:pt x="3572" y="13452"/>
                  <a:pt x="3572" y="13395"/>
                </a:cubicBezTo>
              </a:path>
              <a:path w="2803" h="2407">
                <a:moveTo>
                  <a:pt x="3026" y="13122"/>
                </a:moveTo>
                <a:cubicBezTo>
                  <a:pt x="3103" y="13352"/>
                  <a:pt x="3233" y="13554"/>
                  <a:pt x="3497" y="13618"/>
                </a:cubicBezTo>
                <a:cubicBezTo>
                  <a:pt x="3788" y="13689"/>
                  <a:pt x="4030" y="13508"/>
                  <a:pt x="4167" y="13271"/>
                </a:cubicBezTo>
                <a:cubicBezTo>
                  <a:pt x="4338" y="12974"/>
                  <a:pt x="4272" y="12807"/>
                  <a:pt x="4018" y="12601"/>
                </a:cubicBezTo>
                <a:cubicBezTo>
                  <a:pt x="3849" y="12464"/>
                  <a:pt x="3620" y="12429"/>
                  <a:pt x="3423" y="12502"/>
                </a:cubicBezTo>
                <a:cubicBezTo>
                  <a:pt x="3167" y="12596"/>
                  <a:pt x="2990" y="12829"/>
                  <a:pt x="2977" y="13097"/>
                </a:cubicBezTo>
                <a:cubicBezTo>
                  <a:pt x="2970" y="13238"/>
                  <a:pt x="3059" y="13391"/>
                  <a:pt x="3175" y="13469"/>
                </a:cubicBezTo>
                <a:cubicBezTo>
                  <a:pt x="3200" y="13469"/>
                  <a:pt x="3208" y="13469"/>
                  <a:pt x="3225" y="13469"/>
                </a:cubicBezTo>
              </a:path>
              <a:path w="2803" h="2407">
                <a:moveTo>
                  <a:pt x="5060" y="13047"/>
                </a:moveTo>
                <a:cubicBezTo>
                  <a:pt x="5206" y="13165"/>
                  <a:pt x="5290" y="13319"/>
                  <a:pt x="5383" y="13494"/>
                </a:cubicBezTo>
                <a:cubicBezTo>
                  <a:pt x="5391" y="13510"/>
                  <a:pt x="5399" y="13527"/>
                  <a:pt x="5407" y="13543"/>
                </a:cubicBezTo>
              </a:path>
              <a:path w="2803" h="2407">
                <a:moveTo>
                  <a:pt x="5581" y="12898"/>
                </a:moveTo>
                <a:cubicBezTo>
                  <a:pt x="5385" y="13095"/>
                  <a:pt x="5259" y="13328"/>
                  <a:pt x="5110" y="13568"/>
                </a:cubicBezTo>
                <a:cubicBezTo>
                  <a:pt x="5093" y="13593"/>
                  <a:pt x="5077" y="13618"/>
                  <a:pt x="5060" y="13643"/>
                </a:cubicBezTo>
              </a:path>
              <a:path w="2803" h="2407">
                <a:moveTo>
                  <a:pt x="4738" y="13965"/>
                </a:moveTo>
                <a:cubicBezTo>
                  <a:pt x="5016" y="13920"/>
                  <a:pt x="5324" y="13861"/>
                  <a:pt x="5606" y="13866"/>
                </a:cubicBezTo>
                <a:cubicBezTo>
                  <a:pt x="5705" y="13886"/>
                  <a:pt x="5720" y="13894"/>
                  <a:pt x="5779" y="13891"/>
                </a:cubicBezTo>
              </a:path>
              <a:path w="2803" h="2407">
                <a:moveTo>
                  <a:pt x="5407" y="14213"/>
                </a:moveTo>
                <a:cubicBezTo>
                  <a:pt x="5271" y="14213"/>
                  <a:pt x="5229" y="14193"/>
                  <a:pt x="5085" y="14238"/>
                </a:cubicBezTo>
                <a:cubicBezTo>
                  <a:pt x="4970" y="14284"/>
                  <a:pt x="4935" y="14294"/>
                  <a:pt x="4887" y="14362"/>
                </a:cubicBezTo>
                <a:cubicBezTo>
                  <a:pt x="4944" y="14574"/>
                  <a:pt x="5086" y="14565"/>
                  <a:pt x="5283" y="14660"/>
                </a:cubicBezTo>
                <a:cubicBezTo>
                  <a:pt x="5347" y="14702"/>
                  <a:pt x="5372" y="14705"/>
                  <a:pt x="5358" y="14759"/>
                </a:cubicBezTo>
                <a:cubicBezTo>
                  <a:pt x="5265" y="14843"/>
                  <a:pt x="5032" y="14980"/>
                  <a:pt x="5060" y="14734"/>
                </a:cubicBezTo>
                <a:cubicBezTo>
                  <a:pt x="5083" y="14532"/>
                  <a:pt x="5263" y="14399"/>
                  <a:pt x="5358" y="14238"/>
                </a:cubicBezTo>
                <a:cubicBezTo>
                  <a:pt x="5358" y="14230"/>
                  <a:pt x="5358" y="14221"/>
                  <a:pt x="5358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93000" y="4562640"/>
            <a:ext cx="777960" cy="1287360"/>
          </a:xfrm>
          <a:custGeom>
            <a:avLst/>
            <a:gdLst/>
            <a:ahLst/>
            <a:rect l="l" t="t" r="r" b="b"/>
            <a:pathLst>
              <a:path w="2159" h="3573">
                <a:moveTo>
                  <a:pt x="22845" y="12973"/>
                </a:moveTo>
                <a:cubicBezTo>
                  <a:pt x="22804" y="13014"/>
                  <a:pt x="22780" y="13038"/>
                  <a:pt x="22820" y="12998"/>
                </a:cubicBezTo>
                <a:cubicBezTo>
                  <a:pt x="23039" y="12843"/>
                  <a:pt x="23190" y="12936"/>
                  <a:pt x="23044" y="13246"/>
                </a:cubicBezTo>
                <a:cubicBezTo>
                  <a:pt x="22946" y="13453"/>
                  <a:pt x="22839" y="13494"/>
                  <a:pt x="22647" y="13494"/>
                </a:cubicBezTo>
                <a:cubicBezTo>
                  <a:pt x="22770" y="13355"/>
                  <a:pt x="22812" y="13264"/>
                  <a:pt x="22994" y="13395"/>
                </a:cubicBezTo>
              </a:path>
              <a:path w="2159" h="3573">
                <a:moveTo>
                  <a:pt x="23242" y="12774"/>
                </a:moveTo>
                <a:cubicBezTo>
                  <a:pt x="23383" y="12732"/>
                  <a:pt x="23424" y="12661"/>
                  <a:pt x="23564" y="12725"/>
                </a:cubicBezTo>
                <a:cubicBezTo>
                  <a:pt x="23526" y="12835"/>
                  <a:pt x="23502" y="12896"/>
                  <a:pt x="23416" y="12973"/>
                </a:cubicBezTo>
                <a:cubicBezTo>
                  <a:pt x="23503" y="12962"/>
                  <a:pt x="23678" y="12911"/>
                  <a:pt x="23713" y="13047"/>
                </a:cubicBezTo>
                <a:cubicBezTo>
                  <a:pt x="23779" y="13305"/>
                  <a:pt x="23440" y="13280"/>
                  <a:pt x="23316" y="13246"/>
                </a:cubicBezTo>
              </a:path>
              <a:path w="2159" h="3573">
                <a:moveTo>
                  <a:pt x="22820" y="13667"/>
                </a:moveTo>
                <a:cubicBezTo>
                  <a:pt x="22841" y="13654"/>
                  <a:pt x="23137" y="13521"/>
                  <a:pt x="23068" y="13692"/>
                </a:cubicBezTo>
                <a:cubicBezTo>
                  <a:pt x="22987" y="13793"/>
                  <a:pt x="22975" y="13813"/>
                  <a:pt x="22920" y="13866"/>
                </a:cubicBezTo>
                <a:cubicBezTo>
                  <a:pt x="23055" y="13811"/>
                  <a:pt x="23087" y="13781"/>
                  <a:pt x="23192" y="13866"/>
                </a:cubicBezTo>
                <a:cubicBezTo>
                  <a:pt x="23054" y="14004"/>
                  <a:pt x="22885" y="14165"/>
                  <a:pt x="22920" y="13891"/>
                </a:cubicBezTo>
              </a:path>
              <a:path w="2159" h="3573">
                <a:moveTo>
                  <a:pt x="22498" y="14163"/>
                </a:moveTo>
                <a:cubicBezTo>
                  <a:pt x="22945" y="14091"/>
                  <a:pt x="23433" y="13977"/>
                  <a:pt x="23887" y="13990"/>
                </a:cubicBezTo>
                <a:cubicBezTo>
                  <a:pt x="23895" y="13998"/>
                  <a:pt x="23904" y="14007"/>
                  <a:pt x="23912" y="14015"/>
                </a:cubicBezTo>
              </a:path>
              <a:path w="2159" h="3573">
                <a:moveTo>
                  <a:pt x="23664" y="13593"/>
                </a:moveTo>
                <a:cubicBezTo>
                  <a:pt x="23664" y="13529"/>
                  <a:pt x="23636" y="13551"/>
                  <a:pt x="23614" y="13519"/>
                </a:cubicBezTo>
                <a:cubicBezTo>
                  <a:pt x="23614" y="13511"/>
                  <a:pt x="23614" y="13502"/>
                  <a:pt x="23614" y="13494"/>
                </a:cubicBezTo>
                <a:cubicBezTo>
                  <a:pt x="23614" y="13552"/>
                  <a:pt x="23614" y="13609"/>
                  <a:pt x="23614" y="13667"/>
                </a:cubicBezTo>
              </a:path>
              <a:path w="2159" h="3573">
                <a:moveTo>
                  <a:pt x="23713" y="14238"/>
                </a:moveTo>
                <a:cubicBezTo>
                  <a:pt x="23624" y="14297"/>
                  <a:pt x="23848" y="14191"/>
                  <a:pt x="23862" y="14188"/>
                </a:cubicBezTo>
                <a:cubicBezTo>
                  <a:pt x="23879" y="14188"/>
                  <a:pt x="23895" y="14188"/>
                  <a:pt x="23912" y="14188"/>
                </a:cubicBezTo>
                <a:cubicBezTo>
                  <a:pt x="23938" y="14344"/>
                  <a:pt x="23895" y="14387"/>
                  <a:pt x="23812" y="14511"/>
                </a:cubicBezTo>
                <a:cubicBezTo>
                  <a:pt x="23877" y="14478"/>
                  <a:pt x="24053" y="14404"/>
                  <a:pt x="24011" y="14560"/>
                </a:cubicBezTo>
                <a:cubicBezTo>
                  <a:pt x="23990" y="14638"/>
                  <a:pt x="23830" y="14800"/>
                  <a:pt x="23738" y="14709"/>
                </a:cubicBezTo>
                <a:cubicBezTo>
                  <a:pt x="23730" y="14684"/>
                  <a:pt x="23721" y="14660"/>
                  <a:pt x="23713" y="14635"/>
                </a:cubicBezTo>
              </a:path>
              <a:path w="2159" h="3573">
                <a:moveTo>
                  <a:pt x="22994" y="14362"/>
                </a:moveTo>
                <a:cubicBezTo>
                  <a:pt x="22994" y="14377"/>
                  <a:pt x="22999" y="14342"/>
                  <a:pt x="23068" y="14288"/>
                </a:cubicBezTo>
                <a:cubicBezTo>
                  <a:pt x="23314" y="14353"/>
                  <a:pt x="23271" y="14549"/>
                  <a:pt x="23093" y="14734"/>
                </a:cubicBezTo>
                <a:cubicBezTo>
                  <a:pt x="22966" y="14818"/>
                  <a:pt x="22943" y="14851"/>
                  <a:pt x="22845" y="14833"/>
                </a:cubicBezTo>
                <a:cubicBezTo>
                  <a:pt x="22890" y="14642"/>
                  <a:pt x="22977" y="14602"/>
                  <a:pt x="23168" y="14684"/>
                </a:cubicBezTo>
                <a:cubicBezTo>
                  <a:pt x="23281" y="14733"/>
                  <a:pt x="23207" y="14739"/>
                  <a:pt x="23267" y="14759"/>
                </a:cubicBezTo>
              </a:path>
              <a:path w="2159" h="3573">
                <a:moveTo>
                  <a:pt x="23961" y="14957"/>
                </a:moveTo>
                <a:cubicBezTo>
                  <a:pt x="23919" y="14923"/>
                  <a:pt x="23865" y="14876"/>
                  <a:pt x="23812" y="14932"/>
                </a:cubicBezTo>
                <a:cubicBezTo>
                  <a:pt x="23691" y="15061"/>
                  <a:pt x="23702" y="15189"/>
                  <a:pt x="23763" y="15329"/>
                </a:cubicBezTo>
                <a:cubicBezTo>
                  <a:pt x="23906" y="15279"/>
                  <a:pt x="24157" y="15192"/>
                  <a:pt x="24061" y="14982"/>
                </a:cubicBezTo>
                <a:cubicBezTo>
                  <a:pt x="24050" y="14959"/>
                  <a:pt x="23888" y="14898"/>
                  <a:pt x="23862" y="14908"/>
                </a:cubicBezTo>
                <a:cubicBezTo>
                  <a:pt x="23854" y="14916"/>
                  <a:pt x="23845" y="14924"/>
                  <a:pt x="23837" y="14932"/>
                </a:cubicBezTo>
              </a:path>
              <a:path w="2159" h="3573">
                <a:moveTo>
                  <a:pt x="23143" y="14957"/>
                </a:moveTo>
                <a:cubicBezTo>
                  <a:pt x="23168" y="14957"/>
                  <a:pt x="23176" y="14957"/>
                  <a:pt x="23168" y="14982"/>
                </a:cubicBezTo>
                <a:cubicBezTo>
                  <a:pt x="23225" y="14962"/>
                  <a:pt x="23162" y="14918"/>
                  <a:pt x="23118" y="14908"/>
                </a:cubicBezTo>
                <a:cubicBezTo>
                  <a:pt x="22976" y="14875"/>
                  <a:pt x="22967" y="15069"/>
                  <a:pt x="22944" y="15156"/>
                </a:cubicBezTo>
                <a:cubicBezTo>
                  <a:pt x="23061" y="15247"/>
                  <a:pt x="23114" y="15155"/>
                  <a:pt x="23192" y="15056"/>
                </a:cubicBezTo>
                <a:cubicBezTo>
                  <a:pt x="23209" y="15031"/>
                  <a:pt x="23225" y="15007"/>
                  <a:pt x="23242" y="14982"/>
                </a:cubicBezTo>
                <a:cubicBezTo>
                  <a:pt x="23222" y="15124"/>
                  <a:pt x="23197" y="15259"/>
                  <a:pt x="23192" y="15404"/>
                </a:cubicBezTo>
                <a:cubicBezTo>
                  <a:pt x="23187" y="15525"/>
                  <a:pt x="23172" y="15325"/>
                  <a:pt x="23168" y="15304"/>
                </a:cubicBezTo>
              </a:path>
              <a:path w="2159" h="3573">
                <a:moveTo>
                  <a:pt x="22498" y="15081"/>
                </a:moveTo>
                <a:cubicBezTo>
                  <a:pt x="22471" y="15191"/>
                  <a:pt x="22420" y="15329"/>
                  <a:pt x="22423" y="15453"/>
                </a:cubicBezTo>
                <a:cubicBezTo>
                  <a:pt x="22427" y="15639"/>
                  <a:pt x="22678" y="15560"/>
                  <a:pt x="22746" y="15453"/>
                </a:cubicBezTo>
                <a:cubicBezTo>
                  <a:pt x="22811" y="15350"/>
                  <a:pt x="22783" y="15339"/>
                  <a:pt x="22721" y="15329"/>
                </a:cubicBezTo>
                <a:cubicBezTo>
                  <a:pt x="22702" y="15348"/>
                  <a:pt x="22511" y="15584"/>
                  <a:pt x="22622" y="15602"/>
                </a:cubicBezTo>
                <a:cubicBezTo>
                  <a:pt x="22638" y="15594"/>
                  <a:pt x="22655" y="15585"/>
                  <a:pt x="22671" y="15577"/>
                </a:cubicBezTo>
              </a:path>
              <a:path w="2159" h="3573">
                <a:moveTo>
                  <a:pt x="21927" y="15280"/>
                </a:moveTo>
                <a:cubicBezTo>
                  <a:pt x="22053" y="15256"/>
                  <a:pt x="22171" y="15237"/>
                  <a:pt x="22299" y="15230"/>
                </a:cubicBezTo>
              </a:path>
              <a:path w="2159" h="3573">
                <a:moveTo>
                  <a:pt x="22151" y="15751"/>
                </a:moveTo>
                <a:cubicBezTo>
                  <a:pt x="22744" y="15700"/>
                  <a:pt x="23343" y="15640"/>
                  <a:pt x="23937" y="15627"/>
                </a:cubicBezTo>
                <a:cubicBezTo>
                  <a:pt x="23995" y="15627"/>
                  <a:pt x="24003" y="15627"/>
                  <a:pt x="24036" y="15627"/>
                </a:cubicBezTo>
              </a:path>
              <a:path w="2159" h="3573">
                <a:moveTo>
                  <a:pt x="23639" y="15900"/>
                </a:moveTo>
                <a:cubicBezTo>
                  <a:pt x="23656" y="15894"/>
                  <a:pt x="23722" y="15824"/>
                  <a:pt x="23738" y="15801"/>
                </a:cubicBezTo>
                <a:cubicBezTo>
                  <a:pt x="23747" y="15789"/>
                  <a:pt x="23823" y="15735"/>
                  <a:pt x="23862" y="15751"/>
                </a:cubicBezTo>
                <a:cubicBezTo>
                  <a:pt x="23889" y="15762"/>
                  <a:pt x="23935" y="15809"/>
                  <a:pt x="23937" y="15825"/>
                </a:cubicBezTo>
                <a:cubicBezTo>
                  <a:pt x="23944" y="15881"/>
                  <a:pt x="23937" y="15904"/>
                  <a:pt x="23887" y="15925"/>
                </a:cubicBezTo>
                <a:cubicBezTo>
                  <a:pt x="23839" y="15945"/>
                  <a:pt x="23782" y="15963"/>
                  <a:pt x="23738" y="15974"/>
                </a:cubicBezTo>
                <a:cubicBezTo>
                  <a:pt x="23800" y="15974"/>
                  <a:pt x="23829" y="15967"/>
                  <a:pt x="23887" y="15974"/>
                </a:cubicBezTo>
                <a:cubicBezTo>
                  <a:pt x="23961" y="15982"/>
                  <a:pt x="23971" y="15990"/>
                  <a:pt x="24011" y="16049"/>
                </a:cubicBezTo>
                <a:cubicBezTo>
                  <a:pt x="23997" y="16007"/>
                  <a:pt x="23934" y="16034"/>
                  <a:pt x="23887" y="16049"/>
                </a:cubicBezTo>
                <a:cubicBezTo>
                  <a:pt x="23857" y="16059"/>
                  <a:pt x="23745" y="16103"/>
                  <a:pt x="23713" y="16073"/>
                </a:cubicBezTo>
                <a:cubicBezTo>
                  <a:pt x="23695" y="16056"/>
                  <a:pt x="23687" y="16031"/>
                  <a:pt x="23664" y="15999"/>
                </a:cubicBezTo>
              </a:path>
              <a:path w="2159" h="3573">
                <a:moveTo>
                  <a:pt x="23267" y="15776"/>
                </a:moveTo>
                <a:cubicBezTo>
                  <a:pt x="23292" y="15776"/>
                  <a:pt x="23300" y="15776"/>
                  <a:pt x="23292" y="15751"/>
                </a:cubicBezTo>
                <a:cubicBezTo>
                  <a:pt x="23280" y="15849"/>
                  <a:pt x="23270" y="15965"/>
                  <a:pt x="23242" y="15974"/>
                </a:cubicBezTo>
              </a:path>
              <a:path w="2159" h="3573">
                <a:moveTo>
                  <a:pt x="22547" y="14412"/>
                </a:moveTo>
                <a:cubicBezTo>
                  <a:pt x="22547" y="14387"/>
                  <a:pt x="22547" y="14379"/>
                  <a:pt x="22572" y="14387"/>
                </a:cubicBezTo>
                <a:cubicBezTo>
                  <a:pt x="22512" y="14445"/>
                  <a:pt x="22547" y="14501"/>
                  <a:pt x="22547" y="14585"/>
                </a:cubicBezTo>
                <a:cubicBezTo>
                  <a:pt x="22547" y="14593"/>
                  <a:pt x="22547" y="14602"/>
                  <a:pt x="22547" y="14610"/>
                </a:cubicBezTo>
              </a:path>
              <a:path w="2159" h="3573">
                <a:moveTo>
                  <a:pt x="22523" y="15850"/>
                </a:moveTo>
                <a:cubicBezTo>
                  <a:pt x="22543" y="15954"/>
                  <a:pt x="22570" y="15942"/>
                  <a:pt x="22671" y="15974"/>
                </a:cubicBezTo>
                <a:cubicBezTo>
                  <a:pt x="22743" y="15997"/>
                  <a:pt x="22754" y="16014"/>
                  <a:pt x="22820" y="16024"/>
                </a:cubicBezTo>
                <a:cubicBezTo>
                  <a:pt x="22811" y="16091"/>
                  <a:pt x="22796" y="16153"/>
                  <a:pt x="22796" y="16222"/>
                </a:cubicBezTo>
                <a:cubicBezTo>
                  <a:pt x="22796" y="16230"/>
                  <a:pt x="22796" y="16239"/>
                  <a:pt x="22796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59000" y="4919760"/>
            <a:ext cx="6269040" cy="635040"/>
          </a:xfrm>
          <a:custGeom>
            <a:avLst/>
            <a:gdLst/>
            <a:ahLst/>
            <a:rect l="l" t="t" r="r" b="b"/>
            <a:pathLst>
              <a:path w="17413" h="1763">
                <a:moveTo>
                  <a:pt x="6276" y="13767"/>
                </a:moveTo>
                <a:cubicBezTo>
                  <a:pt x="6374" y="13893"/>
                  <a:pt x="6476" y="14013"/>
                  <a:pt x="6573" y="14139"/>
                </a:cubicBezTo>
              </a:path>
              <a:path w="17413" h="1763">
                <a:moveTo>
                  <a:pt x="13990" y="13791"/>
                </a:moveTo>
                <a:cubicBezTo>
                  <a:pt x="14082" y="13786"/>
                  <a:pt x="14171" y="13775"/>
                  <a:pt x="14263" y="13767"/>
                </a:cubicBezTo>
              </a:path>
              <a:path w="17413" h="1763">
                <a:moveTo>
                  <a:pt x="23639" y="13667"/>
                </a:moveTo>
                <a:cubicBezTo>
                  <a:pt x="23663" y="13808"/>
                  <a:pt x="23669" y="13849"/>
                  <a:pt x="23688" y="13940"/>
                </a:cubicBezTo>
              </a:path>
              <a:path w="17413" h="1763">
                <a:moveTo>
                  <a:pt x="22101" y="13891"/>
                </a:moveTo>
                <a:cubicBezTo>
                  <a:pt x="22156" y="13984"/>
                  <a:pt x="22155" y="14000"/>
                  <a:pt x="22200" y="14039"/>
                </a:cubicBezTo>
              </a:path>
              <a:path w="17413" h="1763">
                <a:moveTo>
                  <a:pt x="22126" y="13767"/>
                </a:moveTo>
                <a:cubicBezTo>
                  <a:pt x="22120" y="13885"/>
                  <a:pt x="22113" y="13978"/>
                  <a:pt x="22076" y="14089"/>
                </a:cubicBezTo>
              </a:path>
              <a:path w="17413" h="1763">
                <a:moveTo>
                  <a:pt x="21977" y="15156"/>
                </a:moveTo>
                <a:cubicBezTo>
                  <a:pt x="22021" y="15250"/>
                  <a:pt x="22058" y="15329"/>
                  <a:pt x="22076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120" y="4384800"/>
            <a:ext cx="1501920" cy="1330200"/>
          </a:xfrm>
          <a:custGeom>
            <a:avLst/>
            <a:gdLst/>
            <a:ahLst/>
            <a:rect l="l" t="t" r="r" b="b"/>
            <a:pathLst>
              <a:path w="4169" h="3697">
                <a:moveTo>
                  <a:pt x="843" y="14114"/>
                </a:moveTo>
                <a:cubicBezTo>
                  <a:pt x="874" y="14236"/>
                  <a:pt x="923" y="14411"/>
                  <a:pt x="967" y="14536"/>
                </a:cubicBezTo>
                <a:cubicBezTo>
                  <a:pt x="1008" y="14617"/>
                  <a:pt x="1025" y="14670"/>
                  <a:pt x="1017" y="14585"/>
                </a:cubicBezTo>
              </a:path>
              <a:path w="4169" h="3697">
                <a:moveTo>
                  <a:pt x="1191" y="14163"/>
                </a:moveTo>
                <a:cubicBezTo>
                  <a:pt x="1291" y="14140"/>
                  <a:pt x="1390" y="14117"/>
                  <a:pt x="1488" y="14089"/>
                </a:cubicBezTo>
              </a:path>
              <a:path w="4169" h="3697">
                <a:moveTo>
                  <a:pt x="1240" y="14312"/>
                </a:moveTo>
                <a:cubicBezTo>
                  <a:pt x="1350" y="14287"/>
                  <a:pt x="1450" y="14263"/>
                  <a:pt x="1563" y="14263"/>
                </a:cubicBezTo>
              </a:path>
              <a:path w="4169" h="3697">
                <a:moveTo>
                  <a:pt x="2183" y="13791"/>
                </a:moveTo>
                <a:cubicBezTo>
                  <a:pt x="2114" y="13801"/>
                  <a:pt x="2050" y="13834"/>
                  <a:pt x="1984" y="13841"/>
                </a:cubicBezTo>
                <a:cubicBezTo>
                  <a:pt x="1902" y="13849"/>
                  <a:pt x="1913" y="14007"/>
                  <a:pt x="1910" y="14064"/>
                </a:cubicBezTo>
                <a:cubicBezTo>
                  <a:pt x="1910" y="14072"/>
                  <a:pt x="1910" y="14081"/>
                  <a:pt x="1910" y="14089"/>
                </a:cubicBezTo>
                <a:cubicBezTo>
                  <a:pt x="2003" y="14042"/>
                  <a:pt x="2183" y="13852"/>
                  <a:pt x="2282" y="13990"/>
                </a:cubicBezTo>
                <a:cubicBezTo>
                  <a:pt x="2407" y="14164"/>
                  <a:pt x="2163" y="14310"/>
                  <a:pt x="2034" y="14337"/>
                </a:cubicBezTo>
                <a:cubicBezTo>
                  <a:pt x="1944" y="14356"/>
                  <a:pt x="1945" y="14349"/>
                  <a:pt x="1935" y="14288"/>
                </a:cubicBezTo>
              </a:path>
              <a:path w="4169" h="3697">
                <a:moveTo>
                  <a:pt x="992" y="15032"/>
                </a:moveTo>
                <a:cubicBezTo>
                  <a:pt x="992" y="15124"/>
                  <a:pt x="977" y="15218"/>
                  <a:pt x="1017" y="15304"/>
                </a:cubicBezTo>
                <a:cubicBezTo>
                  <a:pt x="1085" y="15449"/>
                  <a:pt x="1229" y="15416"/>
                  <a:pt x="1315" y="15304"/>
                </a:cubicBezTo>
                <a:cubicBezTo>
                  <a:pt x="1368" y="15235"/>
                  <a:pt x="1339" y="15127"/>
                  <a:pt x="1339" y="15156"/>
                </a:cubicBezTo>
                <a:cubicBezTo>
                  <a:pt x="1380" y="15349"/>
                  <a:pt x="1435" y="15594"/>
                  <a:pt x="1315" y="15776"/>
                </a:cubicBezTo>
                <a:cubicBezTo>
                  <a:pt x="1240" y="15890"/>
                  <a:pt x="1110" y="15900"/>
                  <a:pt x="1067" y="15801"/>
                </a:cubicBezTo>
              </a:path>
              <a:path w="4169" h="3697">
                <a:moveTo>
                  <a:pt x="1935" y="14808"/>
                </a:moveTo>
                <a:cubicBezTo>
                  <a:pt x="2044" y="14788"/>
                  <a:pt x="2145" y="14745"/>
                  <a:pt x="2257" y="14734"/>
                </a:cubicBezTo>
                <a:cubicBezTo>
                  <a:pt x="2257" y="14892"/>
                  <a:pt x="2271" y="15050"/>
                  <a:pt x="2232" y="15205"/>
                </a:cubicBezTo>
                <a:cubicBezTo>
                  <a:pt x="2224" y="15222"/>
                  <a:pt x="2216" y="15238"/>
                  <a:pt x="2208" y="15255"/>
                </a:cubicBezTo>
              </a:path>
              <a:path w="4169" h="3697">
                <a:moveTo>
                  <a:pt x="1687" y="14461"/>
                </a:moveTo>
                <a:cubicBezTo>
                  <a:pt x="1781" y="14540"/>
                  <a:pt x="1905" y="14596"/>
                  <a:pt x="2034" y="14560"/>
                </a:cubicBezTo>
                <a:cubicBezTo>
                  <a:pt x="2154" y="14526"/>
                  <a:pt x="2269" y="14421"/>
                  <a:pt x="2356" y="14337"/>
                </a:cubicBezTo>
                <a:cubicBezTo>
                  <a:pt x="2448" y="14249"/>
                  <a:pt x="2550" y="14102"/>
                  <a:pt x="2530" y="13965"/>
                </a:cubicBezTo>
                <a:cubicBezTo>
                  <a:pt x="2506" y="13796"/>
                  <a:pt x="2416" y="13662"/>
                  <a:pt x="2257" y="13618"/>
                </a:cubicBezTo>
                <a:cubicBezTo>
                  <a:pt x="2088" y="13571"/>
                  <a:pt x="2012" y="13540"/>
                  <a:pt x="1860" y="13643"/>
                </a:cubicBezTo>
                <a:cubicBezTo>
                  <a:pt x="1621" y="13805"/>
                  <a:pt x="1530" y="13974"/>
                  <a:pt x="1538" y="14263"/>
                </a:cubicBezTo>
                <a:cubicBezTo>
                  <a:pt x="1542" y="14400"/>
                  <a:pt x="1519" y="14705"/>
                  <a:pt x="1637" y="14635"/>
                </a:cubicBezTo>
                <a:cubicBezTo>
                  <a:pt x="1670" y="14594"/>
                  <a:pt x="1703" y="14552"/>
                  <a:pt x="1736" y="14511"/>
                </a:cubicBezTo>
              </a:path>
              <a:path w="4169" h="3697">
                <a:moveTo>
                  <a:pt x="2034" y="13593"/>
                </a:moveTo>
                <a:cubicBezTo>
                  <a:pt x="2029" y="13640"/>
                  <a:pt x="2021" y="13653"/>
                  <a:pt x="2009" y="13692"/>
                </a:cubicBezTo>
                <a:cubicBezTo>
                  <a:pt x="2012" y="13653"/>
                  <a:pt x="2042" y="13479"/>
                  <a:pt x="2059" y="13395"/>
                </a:cubicBezTo>
                <a:cubicBezTo>
                  <a:pt x="2080" y="13292"/>
                  <a:pt x="2098" y="13186"/>
                  <a:pt x="2158" y="13097"/>
                </a:cubicBezTo>
                <a:cubicBezTo>
                  <a:pt x="2216" y="13011"/>
                  <a:pt x="2283" y="12926"/>
                  <a:pt x="2356" y="12849"/>
                </a:cubicBezTo>
                <a:cubicBezTo>
                  <a:pt x="2437" y="12763"/>
                  <a:pt x="2555" y="12690"/>
                  <a:pt x="2654" y="12626"/>
                </a:cubicBezTo>
                <a:cubicBezTo>
                  <a:pt x="2844" y="12502"/>
                  <a:pt x="3064" y="12411"/>
                  <a:pt x="3274" y="12328"/>
                </a:cubicBezTo>
                <a:cubicBezTo>
                  <a:pt x="3422" y="12270"/>
                  <a:pt x="3610" y="12220"/>
                  <a:pt x="3770" y="12204"/>
                </a:cubicBezTo>
                <a:cubicBezTo>
                  <a:pt x="3912" y="12189"/>
                  <a:pt x="4074" y="12156"/>
                  <a:pt x="4217" y="12179"/>
                </a:cubicBezTo>
                <a:cubicBezTo>
                  <a:pt x="4301" y="12192"/>
                  <a:pt x="4437" y="12263"/>
                  <a:pt x="4514" y="12303"/>
                </a:cubicBezTo>
                <a:cubicBezTo>
                  <a:pt x="4587" y="12341"/>
                  <a:pt x="4658" y="12390"/>
                  <a:pt x="4713" y="12452"/>
                </a:cubicBezTo>
                <a:cubicBezTo>
                  <a:pt x="4767" y="12513"/>
                  <a:pt x="4790" y="12586"/>
                  <a:pt x="4837" y="12650"/>
                </a:cubicBezTo>
                <a:cubicBezTo>
                  <a:pt x="4868" y="12692"/>
                  <a:pt x="4937" y="12722"/>
                  <a:pt x="4961" y="12750"/>
                </a:cubicBezTo>
                <a:cubicBezTo>
                  <a:pt x="4961" y="12758"/>
                  <a:pt x="4961" y="12766"/>
                  <a:pt x="4961" y="12774"/>
                </a:cubicBezTo>
                <a:cubicBezTo>
                  <a:pt x="4956" y="12680"/>
                  <a:pt x="4951" y="12593"/>
                  <a:pt x="4936" y="12502"/>
                </a:cubicBezTo>
                <a:cubicBezTo>
                  <a:pt x="4961" y="12575"/>
                  <a:pt x="4990" y="12658"/>
                  <a:pt x="5011" y="12725"/>
                </a:cubicBezTo>
                <a:cubicBezTo>
                  <a:pt x="4957" y="12717"/>
                  <a:pt x="4845" y="12672"/>
                  <a:pt x="4787" y="12700"/>
                </a:cubicBezTo>
                <a:cubicBezTo>
                  <a:pt x="4787" y="12728"/>
                  <a:pt x="4785" y="12739"/>
                  <a:pt x="4762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037120"/>
            <a:ext cx="330120" cy="455760"/>
          </a:xfrm>
          <a:custGeom>
            <a:avLst/>
            <a:gdLst/>
            <a:ahLst/>
            <a:rect l="l" t="t" r="r" b="b"/>
            <a:pathLst>
              <a:path w="918" h="1266">
                <a:moveTo>
                  <a:pt x="1091" y="13990"/>
                </a:moveTo>
                <a:cubicBezTo>
                  <a:pt x="1004" y="14223"/>
                  <a:pt x="913" y="14454"/>
                  <a:pt x="819" y="14684"/>
                </a:cubicBezTo>
              </a:path>
              <a:path w="918" h="1266">
                <a:moveTo>
                  <a:pt x="1488" y="15081"/>
                </a:moveTo>
                <a:cubicBezTo>
                  <a:pt x="1563" y="15056"/>
                  <a:pt x="1587" y="15048"/>
                  <a:pt x="1637" y="15032"/>
                </a:cubicBezTo>
              </a:path>
              <a:path w="918" h="1266">
                <a:moveTo>
                  <a:pt x="1414" y="15255"/>
                </a:moveTo>
                <a:cubicBezTo>
                  <a:pt x="1521" y="15212"/>
                  <a:pt x="1628" y="15170"/>
                  <a:pt x="1736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4653000"/>
            <a:ext cx="615960" cy="830160"/>
          </a:xfrm>
          <a:custGeom>
            <a:avLst/>
            <a:gdLst/>
            <a:ahLst/>
            <a:rect l="l" t="t" r="r" b="b"/>
            <a:pathLst>
              <a:path w="1713" h="2308">
                <a:moveTo>
                  <a:pt x="6672" y="13543"/>
                </a:moveTo>
                <a:cubicBezTo>
                  <a:pt x="6540" y="13748"/>
                  <a:pt x="6401" y="13964"/>
                  <a:pt x="6300" y="14188"/>
                </a:cubicBezTo>
                <a:cubicBezTo>
                  <a:pt x="6300" y="14196"/>
                  <a:pt x="6300" y="14205"/>
                  <a:pt x="6300" y="14213"/>
                </a:cubicBezTo>
              </a:path>
              <a:path w="1713" h="2308">
                <a:moveTo>
                  <a:pt x="7317" y="13022"/>
                </a:moveTo>
                <a:cubicBezTo>
                  <a:pt x="7233" y="13022"/>
                  <a:pt x="7409" y="12941"/>
                  <a:pt x="7491" y="12923"/>
                </a:cubicBezTo>
                <a:cubicBezTo>
                  <a:pt x="7587" y="12923"/>
                  <a:pt x="7618" y="12921"/>
                  <a:pt x="7640" y="12998"/>
                </a:cubicBezTo>
                <a:cubicBezTo>
                  <a:pt x="7581" y="13133"/>
                  <a:pt x="7545" y="13202"/>
                  <a:pt x="7392" y="13246"/>
                </a:cubicBezTo>
                <a:cubicBezTo>
                  <a:pt x="7558" y="13210"/>
                  <a:pt x="7718" y="13217"/>
                  <a:pt x="7640" y="13444"/>
                </a:cubicBezTo>
                <a:cubicBezTo>
                  <a:pt x="7577" y="13629"/>
                  <a:pt x="7423" y="13671"/>
                  <a:pt x="7268" y="13593"/>
                </a:cubicBezTo>
              </a:path>
              <a:path w="1713" h="2308">
                <a:moveTo>
                  <a:pt x="7045" y="13915"/>
                </a:moveTo>
                <a:cubicBezTo>
                  <a:pt x="7350" y="13837"/>
                  <a:pt x="7648" y="13793"/>
                  <a:pt x="7962" y="13767"/>
                </a:cubicBezTo>
                <a:cubicBezTo>
                  <a:pt x="8019" y="13767"/>
                  <a:pt x="8031" y="13772"/>
                  <a:pt x="7962" y="13816"/>
                </a:cubicBezTo>
              </a:path>
              <a:path w="1713" h="2308">
                <a:moveTo>
                  <a:pt x="7243" y="14064"/>
                </a:moveTo>
                <a:cubicBezTo>
                  <a:pt x="7187" y="14120"/>
                  <a:pt x="7199" y="14159"/>
                  <a:pt x="7193" y="14238"/>
                </a:cubicBezTo>
                <a:cubicBezTo>
                  <a:pt x="7180" y="14398"/>
                  <a:pt x="7248" y="14673"/>
                  <a:pt x="7466" y="14511"/>
                </a:cubicBezTo>
                <a:cubicBezTo>
                  <a:pt x="7567" y="14385"/>
                  <a:pt x="7601" y="14341"/>
                  <a:pt x="7640" y="14238"/>
                </a:cubicBezTo>
                <a:cubicBezTo>
                  <a:pt x="7648" y="14221"/>
                  <a:pt x="7657" y="14205"/>
                  <a:pt x="7665" y="14188"/>
                </a:cubicBezTo>
                <a:cubicBezTo>
                  <a:pt x="7647" y="14397"/>
                  <a:pt x="7728" y="14623"/>
                  <a:pt x="7689" y="14858"/>
                </a:cubicBezTo>
                <a:cubicBezTo>
                  <a:pt x="7648" y="15104"/>
                  <a:pt x="7437" y="15230"/>
                  <a:pt x="7193" y="15230"/>
                </a:cubicBezTo>
                <a:cubicBezTo>
                  <a:pt x="7185" y="15222"/>
                  <a:pt x="7177" y="15213"/>
                  <a:pt x="7169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4040" y="6197760"/>
            <a:ext cx="115920" cy="152280"/>
          </a:xfrm>
          <a:custGeom>
            <a:avLst/>
            <a:gdLst/>
            <a:ahLst/>
            <a:rect l="l" t="t" r="r" b="b"/>
            <a:pathLst>
              <a:path w="323" h="423">
                <a:moveTo>
                  <a:pt x="1811" y="17214"/>
                </a:moveTo>
                <a:cubicBezTo>
                  <a:pt x="1712" y="17214"/>
                  <a:pt x="1631" y="17256"/>
                  <a:pt x="1538" y="17289"/>
                </a:cubicBezTo>
                <a:cubicBezTo>
                  <a:pt x="1582" y="17397"/>
                  <a:pt x="1731" y="17404"/>
                  <a:pt x="1786" y="17487"/>
                </a:cubicBezTo>
                <a:cubicBezTo>
                  <a:pt x="1867" y="17609"/>
                  <a:pt x="1685" y="17626"/>
                  <a:pt x="1637" y="17636"/>
                </a:cubicBezTo>
                <a:cubicBezTo>
                  <a:pt x="1556" y="17474"/>
                  <a:pt x="1687" y="17413"/>
                  <a:pt x="1811" y="17289"/>
                </a:cubicBezTo>
                <a:cubicBezTo>
                  <a:pt x="1849" y="17250"/>
                  <a:pt x="1866" y="17248"/>
                  <a:pt x="1860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6120" y="5867280"/>
            <a:ext cx="3340080" cy="606600"/>
          </a:xfrm>
          <a:custGeom>
            <a:avLst/>
            <a:gdLst/>
            <a:ahLst/>
            <a:rect l="l" t="t" r="r" b="b"/>
            <a:pathLst>
              <a:path w="9278" h="1687">
                <a:moveTo>
                  <a:pt x="9773" y="16371"/>
                </a:moveTo>
                <a:cubicBezTo>
                  <a:pt x="9861" y="16506"/>
                  <a:pt x="9947" y="16644"/>
                  <a:pt x="10046" y="16768"/>
                </a:cubicBezTo>
              </a:path>
              <a:path w="9278" h="1687">
                <a:moveTo>
                  <a:pt x="769" y="16594"/>
                </a:moveTo>
                <a:cubicBezTo>
                  <a:pt x="814" y="16706"/>
                  <a:pt x="943" y="16812"/>
                  <a:pt x="1017" y="16917"/>
                </a:cubicBezTo>
                <a:cubicBezTo>
                  <a:pt x="1033" y="16940"/>
                  <a:pt x="1042" y="17020"/>
                  <a:pt x="1042" y="16966"/>
                </a:cubicBezTo>
              </a:path>
              <a:path w="9278" h="1687">
                <a:moveTo>
                  <a:pt x="1067" y="16545"/>
                </a:moveTo>
                <a:cubicBezTo>
                  <a:pt x="1011" y="16643"/>
                  <a:pt x="801" y="16928"/>
                  <a:pt x="819" y="17041"/>
                </a:cubicBezTo>
                <a:cubicBezTo>
                  <a:pt x="827" y="17041"/>
                  <a:pt x="835" y="17041"/>
                  <a:pt x="843" y="17041"/>
                </a:cubicBezTo>
              </a:path>
              <a:path w="9278" h="1687">
                <a:moveTo>
                  <a:pt x="1265" y="16644"/>
                </a:moveTo>
                <a:cubicBezTo>
                  <a:pt x="1379" y="16644"/>
                  <a:pt x="1442" y="16608"/>
                  <a:pt x="1414" y="16644"/>
                </a:cubicBezTo>
                <a:cubicBezTo>
                  <a:pt x="1414" y="16652"/>
                  <a:pt x="1414" y="16661"/>
                  <a:pt x="1414" y="16669"/>
                </a:cubicBezTo>
              </a:path>
              <a:path w="9278" h="1687">
                <a:moveTo>
                  <a:pt x="1240" y="16818"/>
                </a:moveTo>
                <a:cubicBezTo>
                  <a:pt x="1296" y="16793"/>
                  <a:pt x="1414" y="16749"/>
                  <a:pt x="1439" y="16743"/>
                </a:cubicBezTo>
                <a:cubicBezTo>
                  <a:pt x="1455" y="16743"/>
                  <a:pt x="1472" y="16743"/>
                  <a:pt x="1488" y="16743"/>
                </a:cubicBezTo>
              </a:path>
              <a:path w="9278" h="1687">
                <a:moveTo>
                  <a:pt x="1513" y="16470"/>
                </a:moveTo>
                <a:cubicBezTo>
                  <a:pt x="1513" y="16552"/>
                  <a:pt x="1501" y="16616"/>
                  <a:pt x="1488" y="16694"/>
                </a:cubicBezTo>
                <a:cubicBezTo>
                  <a:pt x="1624" y="16738"/>
                  <a:pt x="1667" y="16752"/>
                  <a:pt x="1786" y="16669"/>
                </a:cubicBezTo>
              </a:path>
              <a:path w="9278" h="1687">
                <a:moveTo>
                  <a:pt x="1811" y="16297"/>
                </a:moveTo>
                <a:cubicBezTo>
                  <a:pt x="1772" y="16452"/>
                  <a:pt x="1765" y="16629"/>
                  <a:pt x="1761" y="16793"/>
                </a:cubicBezTo>
                <a:cubicBezTo>
                  <a:pt x="1760" y="16834"/>
                  <a:pt x="1761" y="16876"/>
                  <a:pt x="1761" y="16917"/>
                </a:cubicBezTo>
              </a:path>
              <a:path w="9278" h="1687">
                <a:moveTo>
                  <a:pt x="868" y="17264"/>
                </a:moveTo>
                <a:cubicBezTo>
                  <a:pt x="868" y="17377"/>
                  <a:pt x="874" y="17459"/>
                  <a:pt x="967" y="17537"/>
                </a:cubicBezTo>
                <a:cubicBezTo>
                  <a:pt x="1058" y="17613"/>
                  <a:pt x="1137" y="17503"/>
                  <a:pt x="1141" y="17413"/>
                </a:cubicBezTo>
                <a:cubicBezTo>
                  <a:pt x="1133" y="17396"/>
                  <a:pt x="1124" y="17380"/>
                  <a:pt x="1116" y="17363"/>
                </a:cubicBezTo>
                <a:cubicBezTo>
                  <a:pt x="1165" y="17508"/>
                  <a:pt x="1211" y="17671"/>
                  <a:pt x="1116" y="17810"/>
                </a:cubicBezTo>
                <a:cubicBezTo>
                  <a:pt x="1039" y="17922"/>
                  <a:pt x="937" y="17941"/>
                  <a:pt x="819" y="17983"/>
                </a:cubicBezTo>
                <a:cubicBezTo>
                  <a:pt x="830" y="17831"/>
                  <a:pt x="851" y="17820"/>
                  <a:pt x="943" y="17686"/>
                </a:cubicBezTo>
              </a:path>
              <a:path w="9278" h="1687">
                <a:moveTo>
                  <a:pt x="1463" y="17413"/>
                </a:moveTo>
                <a:cubicBezTo>
                  <a:pt x="1509" y="17413"/>
                  <a:pt x="1517" y="17431"/>
                  <a:pt x="1488" y="17388"/>
                </a:cubicBezTo>
              </a:path>
              <a:path w="9278" h="1687">
                <a:moveTo>
                  <a:pt x="1439" y="17512"/>
                </a:moveTo>
                <a:cubicBezTo>
                  <a:pt x="1517" y="17512"/>
                  <a:pt x="1565" y="17527"/>
                  <a:pt x="1513" y="17487"/>
                </a:cubicBezTo>
              </a:path>
              <a:path w="9278" h="1687">
                <a:moveTo>
                  <a:pt x="5035" y="16842"/>
                </a:moveTo>
                <a:lnTo>
                  <a:pt x="5035" y="168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25840" y="5813280"/>
            <a:ext cx="223560" cy="312840"/>
          </a:xfrm>
          <a:custGeom>
            <a:avLst/>
            <a:gdLst/>
            <a:ahLst/>
            <a:rect l="l" t="t" r="r" b="b"/>
            <a:pathLst>
              <a:path w="621" h="869">
                <a:moveTo>
                  <a:pt x="7888" y="16148"/>
                </a:moveTo>
                <a:cubicBezTo>
                  <a:pt x="7909" y="16169"/>
                  <a:pt x="7689" y="16280"/>
                  <a:pt x="7615" y="16297"/>
                </a:cubicBezTo>
                <a:cubicBezTo>
                  <a:pt x="7586" y="16304"/>
                  <a:pt x="7465" y="16273"/>
                  <a:pt x="7441" y="16321"/>
                </a:cubicBezTo>
                <a:cubicBezTo>
                  <a:pt x="7393" y="16419"/>
                  <a:pt x="7357" y="16536"/>
                  <a:pt x="7342" y="16644"/>
                </a:cubicBezTo>
                <a:cubicBezTo>
                  <a:pt x="7438" y="16628"/>
                  <a:pt x="7567" y="16557"/>
                  <a:pt x="7665" y="16570"/>
                </a:cubicBezTo>
                <a:cubicBezTo>
                  <a:pt x="7904" y="16602"/>
                  <a:pt x="7904" y="16836"/>
                  <a:pt x="7739" y="16966"/>
                </a:cubicBezTo>
                <a:cubicBezTo>
                  <a:pt x="7611" y="17068"/>
                  <a:pt x="7426" y="17015"/>
                  <a:pt x="7293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81240" y="5680080"/>
            <a:ext cx="214560" cy="473040"/>
          </a:xfrm>
          <a:custGeom>
            <a:avLst/>
            <a:gdLst/>
            <a:ahLst/>
            <a:rect l="l" t="t" r="r" b="b"/>
            <a:pathLst>
              <a:path w="596" h="1315">
                <a:moveTo>
                  <a:pt x="8706" y="15925"/>
                </a:moveTo>
                <a:cubicBezTo>
                  <a:pt x="8676" y="15828"/>
                  <a:pt x="8856" y="15802"/>
                  <a:pt x="8954" y="15776"/>
                </a:cubicBezTo>
                <a:cubicBezTo>
                  <a:pt x="8936" y="15906"/>
                  <a:pt x="8879" y="15928"/>
                  <a:pt x="8806" y="16024"/>
                </a:cubicBezTo>
                <a:cubicBezTo>
                  <a:pt x="8858" y="15989"/>
                  <a:pt x="8997" y="15947"/>
                  <a:pt x="8954" y="16073"/>
                </a:cubicBezTo>
                <a:cubicBezTo>
                  <a:pt x="8923" y="16162"/>
                  <a:pt x="8822" y="16199"/>
                  <a:pt x="8756" y="16173"/>
                </a:cubicBezTo>
              </a:path>
              <a:path w="596" h="1315">
                <a:moveTo>
                  <a:pt x="8558" y="16371"/>
                </a:moveTo>
                <a:cubicBezTo>
                  <a:pt x="8733" y="16363"/>
                  <a:pt x="8904" y="16327"/>
                  <a:pt x="9079" y="16321"/>
                </a:cubicBezTo>
                <a:cubicBezTo>
                  <a:pt x="9138" y="16319"/>
                  <a:pt x="9141" y="16322"/>
                  <a:pt x="9153" y="16371"/>
                </a:cubicBezTo>
              </a:path>
              <a:path w="596" h="1315">
                <a:moveTo>
                  <a:pt x="8706" y="16619"/>
                </a:moveTo>
                <a:cubicBezTo>
                  <a:pt x="8837" y="16706"/>
                  <a:pt x="8908" y="16801"/>
                  <a:pt x="8979" y="16942"/>
                </a:cubicBezTo>
                <a:cubicBezTo>
                  <a:pt x="8979" y="16966"/>
                  <a:pt x="8979" y="16974"/>
                  <a:pt x="8979" y="16942"/>
                </a:cubicBezTo>
              </a:path>
              <a:path w="596" h="1315">
                <a:moveTo>
                  <a:pt x="8979" y="16495"/>
                </a:moveTo>
                <a:cubicBezTo>
                  <a:pt x="8879" y="16678"/>
                  <a:pt x="8793" y="16866"/>
                  <a:pt x="8731" y="17066"/>
                </a:cubicBezTo>
                <a:cubicBezTo>
                  <a:pt x="8731" y="17090"/>
                  <a:pt x="8731" y="17098"/>
                  <a:pt x="8756" y="17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27280" y="5840280"/>
            <a:ext cx="12564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0145" y="16222"/>
                </a:moveTo>
                <a:cubicBezTo>
                  <a:pt x="10042" y="16428"/>
                  <a:pt x="9938" y="16589"/>
                  <a:pt x="9798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57760" y="5688000"/>
            <a:ext cx="554040" cy="519120"/>
          </a:xfrm>
          <a:custGeom>
            <a:avLst/>
            <a:gdLst/>
            <a:ahLst/>
            <a:rect l="l" t="t" r="r" b="b"/>
            <a:pathLst>
              <a:path w="1539" h="1439">
                <a:moveTo>
                  <a:pt x="10964" y="15900"/>
                </a:moveTo>
                <a:cubicBezTo>
                  <a:pt x="10921" y="16086"/>
                  <a:pt x="10875" y="16259"/>
                  <a:pt x="10815" y="16446"/>
                </a:cubicBezTo>
                <a:cubicBezTo>
                  <a:pt x="10765" y="16602"/>
                  <a:pt x="10731" y="16733"/>
                  <a:pt x="10716" y="16892"/>
                </a:cubicBezTo>
                <a:cubicBezTo>
                  <a:pt x="10832" y="17010"/>
                  <a:pt x="10928" y="16955"/>
                  <a:pt x="11063" y="16867"/>
                </a:cubicBezTo>
                <a:cubicBezTo>
                  <a:pt x="11082" y="16854"/>
                  <a:pt x="11398" y="16571"/>
                  <a:pt x="11212" y="16570"/>
                </a:cubicBezTo>
                <a:cubicBezTo>
                  <a:pt x="11060" y="16570"/>
                  <a:pt x="11013" y="16690"/>
                  <a:pt x="10939" y="16793"/>
                </a:cubicBezTo>
                <a:cubicBezTo>
                  <a:pt x="10920" y="16960"/>
                  <a:pt x="10993" y="16826"/>
                  <a:pt x="11112" y="16718"/>
                </a:cubicBezTo>
              </a:path>
              <a:path w="1539" h="1439">
                <a:moveTo>
                  <a:pt x="11782" y="15825"/>
                </a:moveTo>
                <a:cubicBezTo>
                  <a:pt x="11782" y="15906"/>
                  <a:pt x="11786" y="15974"/>
                  <a:pt x="11807" y="16049"/>
                </a:cubicBezTo>
                <a:cubicBezTo>
                  <a:pt x="11949" y="16027"/>
                  <a:pt x="12072" y="15979"/>
                  <a:pt x="12154" y="15850"/>
                </a:cubicBezTo>
                <a:cubicBezTo>
                  <a:pt x="12154" y="15825"/>
                  <a:pt x="12154" y="15817"/>
                  <a:pt x="12154" y="15801"/>
                </a:cubicBezTo>
                <a:cubicBezTo>
                  <a:pt x="12154" y="15975"/>
                  <a:pt x="12178" y="16098"/>
                  <a:pt x="12129" y="16272"/>
                </a:cubicBezTo>
                <a:cubicBezTo>
                  <a:pt x="12066" y="16495"/>
                  <a:pt x="11914" y="16466"/>
                  <a:pt x="11782" y="16346"/>
                </a:cubicBezTo>
              </a:path>
              <a:path w="1539" h="1439">
                <a:moveTo>
                  <a:pt x="11658" y="16470"/>
                </a:moveTo>
                <a:cubicBezTo>
                  <a:pt x="11817" y="16470"/>
                  <a:pt x="11971" y="16456"/>
                  <a:pt x="12129" y="16446"/>
                </a:cubicBezTo>
                <a:cubicBezTo>
                  <a:pt x="12207" y="16446"/>
                  <a:pt x="12225" y="16431"/>
                  <a:pt x="12254" y="16470"/>
                </a:cubicBezTo>
              </a:path>
              <a:path w="1539" h="1439">
                <a:moveTo>
                  <a:pt x="12030" y="16867"/>
                </a:moveTo>
                <a:cubicBezTo>
                  <a:pt x="12089" y="16824"/>
                  <a:pt x="12115" y="16726"/>
                  <a:pt x="12030" y="16669"/>
                </a:cubicBezTo>
                <a:cubicBezTo>
                  <a:pt x="11880" y="16569"/>
                  <a:pt x="11790" y="16737"/>
                  <a:pt x="11757" y="16842"/>
                </a:cubicBezTo>
                <a:cubicBezTo>
                  <a:pt x="11873" y="16892"/>
                  <a:pt x="11936" y="16850"/>
                  <a:pt x="12030" y="16768"/>
                </a:cubicBezTo>
                <a:cubicBezTo>
                  <a:pt x="12053" y="16745"/>
                  <a:pt x="12061" y="16741"/>
                  <a:pt x="12055" y="16718"/>
                </a:cubicBezTo>
                <a:cubicBezTo>
                  <a:pt x="12055" y="16861"/>
                  <a:pt x="12059" y="16998"/>
                  <a:pt x="12030" y="17140"/>
                </a:cubicBezTo>
                <a:cubicBezTo>
                  <a:pt x="12011" y="17197"/>
                  <a:pt x="12002" y="17204"/>
                  <a:pt x="12005" y="1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43680" y="5616720"/>
            <a:ext cx="571320" cy="519120"/>
          </a:xfrm>
          <a:custGeom>
            <a:avLst/>
            <a:gdLst/>
            <a:ahLst/>
            <a:rect l="l" t="t" r="r" b="b"/>
            <a:pathLst>
              <a:path w="1588" h="1440">
                <a:moveTo>
                  <a:pt x="14684" y="15999"/>
                </a:moveTo>
                <a:cubicBezTo>
                  <a:pt x="14585" y="15982"/>
                  <a:pt x="14514" y="15993"/>
                  <a:pt x="14412" y="15999"/>
                </a:cubicBezTo>
                <a:cubicBezTo>
                  <a:pt x="14352" y="16002"/>
                  <a:pt x="14347" y="16214"/>
                  <a:pt x="14337" y="16247"/>
                </a:cubicBezTo>
                <a:cubicBezTo>
                  <a:pt x="14335" y="16254"/>
                  <a:pt x="14312" y="16393"/>
                  <a:pt x="14312" y="16321"/>
                </a:cubicBezTo>
                <a:cubicBezTo>
                  <a:pt x="14387" y="16247"/>
                  <a:pt x="14553" y="16074"/>
                  <a:pt x="14684" y="16123"/>
                </a:cubicBezTo>
                <a:cubicBezTo>
                  <a:pt x="15003" y="16242"/>
                  <a:pt x="14617" y="16600"/>
                  <a:pt x="14486" y="16669"/>
                </a:cubicBezTo>
                <a:cubicBezTo>
                  <a:pt x="14378" y="16691"/>
                  <a:pt x="14352" y="16704"/>
                  <a:pt x="14288" y="16669"/>
                </a:cubicBezTo>
              </a:path>
              <a:path w="1588" h="1440">
                <a:moveTo>
                  <a:pt x="15404" y="15677"/>
                </a:moveTo>
                <a:cubicBezTo>
                  <a:pt x="15345" y="15677"/>
                  <a:pt x="15539" y="15579"/>
                  <a:pt x="15602" y="15602"/>
                </a:cubicBezTo>
                <a:cubicBezTo>
                  <a:pt x="15706" y="15641"/>
                  <a:pt x="15501" y="15801"/>
                  <a:pt x="15478" y="15825"/>
                </a:cubicBezTo>
                <a:cubicBezTo>
                  <a:pt x="15550" y="15815"/>
                  <a:pt x="15774" y="15783"/>
                  <a:pt x="15652" y="15949"/>
                </a:cubicBezTo>
                <a:cubicBezTo>
                  <a:pt x="15567" y="16066"/>
                  <a:pt x="15477" y="16064"/>
                  <a:pt x="15354" y="16073"/>
                </a:cubicBezTo>
              </a:path>
              <a:path w="1588" h="1440">
                <a:moveTo>
                  <a:pt x="15230" y="16222"/>
                </a:moveTo>
                <a:cubicBezTo>
                  <a:pt x="15448" y="16157"/>
                  <a:pt x="15647" y="16087"/>
                  <a:pt x="15875" y="16073"/>
                </a:cubicBezTo>
              </a:path>
              <a:path w="1588" h="1440">
                <a:moveTo>
                  <a:pt x="15404" y="16619"/>
                </a:moveTo>
                <a:cubicBezTo>
                  <a:pt x="15417" y="16580"/>
                  <a:pt x="15416" y="16609"/>
                  <a:pt x="15429" y="16570"/>
                </a:cubicBezTo>
                <a:cubicBezTo>
                  <a:pt x="15501" y="16594"/>
                  <a:pt x="15392" y="16721"/>
                  <a:pt x="15379" y="16768"/>
                </a:cubicBezTo>
                <a:cubicBezTo>
                  <a:pt x="15379" y="16785"/>
                  <a:pt x="15379" y="16801"/>
                  <a:pt x="15379" y="16818"/>
                </a:cubicBezTo>
                <a:cubicBezTo>
                  <a:pt x="15483" y="16812"/>
                  <a:pt x="15619" y="16821"/>
                  <a:pt x="15677" y="16743"/>
                </a:cubicBezTo>
              </a:path>
              <a:path w="1588" h="1440">
                <a:moveTo>
                  <a:pt x="15602" y="16495"/>
                </a:moveTo>
                <a:cubicBezTo>
                  <a:pt x="15602" y="16677"/>
                  <a:pt x="15602" y="16859"/>
                  <a:pt x="15602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9840" y="5545080"/>
            <a:ext cx="741240" cy="482760"/>
          </a:xfrm>
          <a:custGeom>
            <a:avLst/>
            <a:gdLst/>
            <a:ahLst/>
            <a:rect l="l" t="t" r="r" b="b"/>
            <a:pathLst>
              <a:path w="2059" h="1340">
                <a:moveTo>
                  <a:pt x="16446" y="16049"/>
                </a:moveTo>
                <a:cubicBezTo>
                  <a:pt x="16560" y="16071"/>
                  <a:pt x="16598" y="16188"/>
                  <a:pt x="16669" y="16272"/>
                </a:cubicBezTo>
                <a:cubicBezTo>
                  <a:pt x="16731" y="16345"/>
                  <a:pt x="16721" y="16354"/>
                  <a:pt x="16768" y="16297"/>
                </a:cubicBezTo>
              </a:path>
              <a:path w="2059" h="1340">
                <a:moveTo>
                  <a:pt x="17239" y="15801"/>
                </a:moveTo>
                <a:cubicBezTo>
                  <a:pt x="17239" y="15675"/>
                  <a:pt x="17213" y="15999"/>
                  <a:pt x="17190" y="16123"/>
                </a:cubicBezTo>
                <a:cubicBezTo>
                  <a:pt x="17162" y="16278"/>
                  <a:pt x="17142" y="16336"/>
                  <a:pt x="17190" y="16470"/>
                </a:cubicBezTo>
                <a:cubicBezTo>
                  <a:pt x="17377" y="16495"/>
                  <a:pt x="17478" y="16464"/>
                  <a:pt x="17587" y="16297"/>
                </a:cubicBezTo>
                <a:cubicBezTo>
                  <a:pt x="17635" y="16200"/>
                  <a:pt x="17652" y="16169"/>
                  <a:pt x="17611" y="16098"/>
                </a:cubicBezTo>
                <a:cubicBezTo>
                  <a:pt x="17462" y="16065"/>
                  <a:pt x="17415" y="16156"/>
                  <a:pt x="17363" y="16297"/>
                </a:cubicBezTo>
                <a:cubicBezTo>
                  <a:pt x="17326" y="16398"/>
                  <a:pt x="17346" y="16389"/>
                  <a:pt x="17363" y="16470"/>
                </a:cubicBezTo>
              </a:path>
              <a:path w="2059" h="1340">
                <a:moveTo>
                  <a:pt x="18157" y="15429"/>
                </a:moveTo>
                <a:cubicBezTo>
                  <a:pt x="18264" y="15393"/>
                  <a:pt x="18022" y="15423"/>
                  <a:pt x="18008" y="15429"/>
                </a:cubicBezTo>
                <a:cubicBezTo>
                  <a:pt x="17949" y="15468"/>
                  <a:pt x="17937" y="15472"/>
                  <a:pt x="17909" y="15503"/>
                </a:cubicBezTo>
                <a:cubicBezTo>
                  <a:pt x="18004" y="15622"/>
                  <a:pt x="18166" y="15683"/>
                  <a:pt x="18231" y="15801"/>
                </a:cubicBezTo>
                <a:cubicBezTo>
                  <a:pt x="18110" y="15856"/>
                  <a:pt x="17953" y="15878"/>
                  <a:pt x="18033" y="15677"/>
                </a:cubicBezTo>
                <a:cubicBezTo>
                  <a:pt x="18038" y="15665"/>
                  <a:pt x="18171" y="15450"/>
                  <a:pt x="18157" y="15478"/>
                </a:cubicBezTo>
                <a:cubicBezTo>
                  <a:pt x="18157" y="15486"/>
                  <a:pt x="18157" y="15495"/>
                  <a:pt x="18157" y="15503"/>
                </a:cubicBezTo>
              </a:path>
              <a:path w="2059" h="1340">
                <a:moveTo>
                  <a:pt x="17909" y="16073"/>
                </a:moveTo>
                <a:cubicBezTo>
                  <a:pt x="18079" y="16073"/>
                  <a:pt x="18237" y="16040"/>
                  <a:pt x="18405" y="16024"/>
                </a:cubicBezTo>
                <a:cubicBezTo>
                  <a:pt x="18463" y="16024"/>
                  <a:pt x="18471" y="16024"/>
                  <a:pt x="18504" y="16024"/>
                </a:cubicBezTo>
              </a:path>
              <a:path w="2059" h="1340">
                <a:moveTo>
                  <a:pt x="18182" y="16297"/>
                </a:moveTo>
                <a:cubicBezTo>
                  <a:pt x="18233" y="16280"/>
                  <a:pt x="18200" y="16238"/>
                  <a:pt x="18157" y="16222"/>
                </a:cubicBezTo>
                <a:cubicBezTo>
                  <a:pt x="18014" y="16169"/>
                  <a:pt x="17971" y="16319"/>
                  <a:pt x="17983" y="16421"/>
                </a:cubicBezTo>
                <a:cubicBezTo>
                  <a:pt x="18119" y="16389"/>
                  <a:pt x="18128" y="16365"/>
                  <a:pt x="18207" y="16247"/>
                </a:cubicBezTo>
                <a:cubicBezTo>
                  <a:pt x="18274" y="16349"/>
                  <a:pt x="18256" y="16527"/>
                  <a:pt x="18256" y="16669"/>
                </a:cubicBezTo>
                <a:cubicBezTo>
                  <a:pt x="18256" y="16710"/>
                  <a:pt x="18256" y="16718"/>
                  <a:pt x="18256" y="16743"/>
                </a:cubicBezTo>
              </a:path>
              <a:path w="2059" h="1340">
                <a:moveTo>
                  <a:pt x="16991" y="16545"/>
                </a:moveTo>
                <a:cubicBezTo>
                  <a:pt x="16978" y="16545"/>
                  <a:pt x="16881" y="16337"/>
                  <a:pt x="16867" y="16247"/>
                </a:cubicBezTo>
                <a:cubicBezTo>
                  <a:pt x="16846" y="16118"/>
                  <a:pt x="16892" y="15923"/>
                  <a:pt x="17016" y="15850"/>
                </a:cubicBezTo>
                <a:cubicBezTo>
                  <a:pt x="17091" y="15806"/>
                  <a:pt x="17174" y="15804"/>
                  <a:pt x="17239" y="15825"/>
                </a:cubicBezTo>
                <a:cubicBezTo>
                  <a:pt x="17247" y="15825"/>
                  <a:pt x="17256" y="15825"/>
                  <a:pt x="17264" y="15825"/>
                </a:cubicBezTo>
              </a:path>
              <a:path w="2059" h="1340">
                <a:moveTo>
                  <a:pt x="17413" y="15478"/>
                </a:moveTo>
                <a:cubicBezTo>
                  <a:pt x="17422" y="15562"/>
                  <a:pt x="17455" y="15641"/>
                  <a:pt x="17462" y="15726"/>
                </a:cubicBezTo>
                <a:cubicBezTo>
                  <a:pt x="17462" y="15734"/>
                  <a:pt x="17462" y="15743"/>
                  <a:pt x="17462" y="15751"/>
                </a:cubicBezTo>
              </a:path>
              <a:path w="2059" h="1340">
                <a:moveTo>
                  <a:pt x="17363" y="15677"/>
                </a:moveTo>
                <a:cubicBezTo>
                  <a:pt x="17424" y="15642"/>
                  <a:pt x="17492" y="15624"/>
                  <a:pt x="17562" y="15602"/>
                </a:cubicBezTo>
              </a:path>
              <a:path w="2059" h="1340">
                <a:moveTo>
                  <a:pt x="16991" y="15925"/>
                </a:moveTo>
                <a:cubicBezTo>
                  <a:pt x="17020" y="15866"/>
                  <a:pt x="17094" y="15835"/>
                  <a:pt x="17165" y="15825"/>
                </a:cubicBezTo>
                <a:cubicBezTo>
                  <a:pt x="17173" y="15825"/>
                  <a:pt x="17182" y="15825"/>
                  <a:pt x="17190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57760" y="5759280"/>
            <a:ext cx="2384280" cy="1044720"/>
          </a:xfrm>
          <a:custGeom>
            <a:avLst/>
            <a:gdLst/>
            <a:ahLst/>
            <a:rect l="l" t="t" r="r" b="b"/>
            <a:pathLst>
              <a:path w="6623" h="2903">
                <a:moveTo>
                  <a:pt x="16793" y="15999"/>
                </a:moveTo>
                <a:cubicBezTo>
                  <a:pt x="16758" y="16137"/>
                  <a:pt x="16588" y="16183"/>
                  <a:pt x="16495" y="16272"/>
                </a:cubicBezTo>
                <a:cubicBezTo>
                  <a:pt x="16495" y="16280"/>
                  <a:pt x="16495" y="16289"/>
                  <a:pt x="16495" y="16297"/>
                </a:cubicBezTo>
              </a:path>
              <a:path w="6623" h="2903">
                <a:moveTo>
                  <a:pt x="15007" y="16594"/>
                </a:moveTo>
                <a:cubicBezTo>
                  <a:pt x="14957" y="16677"/>
                  <a:pt x="14856" y="16938"/>
                  <a:pt x="14808" y="16842"/>
                </a:cubicBezTo>
              </a:path>
              <a:path w="6623" h="2903">
                <a:moveTo>
                  <a:pt x="16942" y="16768"/>
                </a:moveTo>
                <a:cubicBezTo>
                  <a:pt x="17030" y="16716"/>
                  <a:pt x="17078" y="16652"/>
                  <a:pt x="17140" y="16743"/>
                </a:cubicBezTo>
              </a:path>
              <a:path w="6623" h="2903">
                <a:moveTo>
                  <a:pt x="17338" y="16669"/>
                </a:moveTo>
                <a:cubicBezTo>
                  <a:pt x="17315" y="16806"/>
                  <a:pt x="17312" y="16935"/>
                  <a:pt x="17264" y="17066"/>
                </a:cubicBezTo>
              </a:path>
              <a:path w="6623" h="2903">
                <a:moveTo>
                  <a:pt x="17264" y="17066"/>
                </a:moveTo>
                <a:lnTo>
                  <a:pt x="17264" y="17066"/>
                </a:lnTo>
              </a:path>
              <a:path w="6623" h="2903">
                <a:moveTo>
                  <a:pt x="10716" y="18901"/>
                </a:moveTo>
                <a:lnTo>
                  <a:pt x="10716" y="18901"/>
                </a:lnTo>
                <a:lnTo>
                  <a:pt x="10716" y="18901"/>
                </a:lnTo>
              </a:path>
              <a:path w="6623" h="2903">
                <a:moveTo>
                  <a:pt x="12725" y="17686"/>
                </a:moveTo>
                <a:cubicBezTo>
                  <a:pt x="12675" y="17773"/>
                  <a:pt x="12678" y="17865"/>
                  <a:pt x="12650" y="179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97160" y="5581800"/>
            <a:ext cx="2554200" cy="1258560"/>
          </a:xfrm>
          <a:custGeom>
            <a:avLst/>
            <a:gdLst/>
            <a:ahLst/>
            <a:rect l="l" t="t" r="r" b="b"/>
            <a:pathLst>
              <a:path w="7095" h="3498">
                <a:moveTo>
                  <a:pt x="14883" y="16669"/>
                </a:moveTo>
                <a:cubicBezTo>
                  <a:pt x="14883" y="16641"/>
                  <a:pt x="14881" y="16630"/>
                  <a:pt x="14858" y="16619"/>
                </a:cubicBezTo>
                <a:cubicBezTo>
                  <a:pt x="14879" y="16671"/>
                  <a:pt x="14920" y="16706"/>
                  <a:pt x="14932" y="16768"/>
                </a:cubicBezTo>
              </a:path>
              <a:path w="7095" h="3498">
                <a:moveTo>
                  <a:pt x="14114" y="17066"/>
                </a:moveTo>
                <a:cubicBezTo>
                  <a:pt x="14147" y="17066"/>
                  <a:pt x="14163" y="17066"/>
                  <a:pt x="14188" y="17066"/>
                </a:cubicBezTo>
                <a:cubicBezTo>
                  <a:pt x="14232" y="17211"/>
                  <a:pt x="14193" y="17341"/>
                  <a:pt x="14039" y="17413"/>
                </a:cubicBezTo>
                <a:cubicBezTo>
                  <a:pt x="13978" y="17413"/>
                  <a:pt x="13962" y="17422"/>
                  <a:pt x="13940" y="17388"/>
                </a:cubicBezTo>
                <a:cubicBezTo>
                  <a:pt x="13993" y="17309"/>
                  <a:pt x="13990" y="17344"/>
                  <a:pt x="14064" y="17388"/>
                </a:cubicBezTo>
                <a:cubicBezTo>
                  <a:pt x="14081" y="17396"/>
                  <a:pt x="14097" y="17405"/>
                  <a:pt x="14114" y="17413"/>
                </a:cubicBezTo>
              </a:path>
              <a:path w="7095" h="3498">
                <a:moveTo>
                  <a:pt x="14412" y="17090"/>
                </a:moveTo>
                <a:cubicBezTo>
                  <a:pt x="14368" y="17179"/>
                  <a:pt x="14346" y="17236"/>
                  <a:pt x="14337" y="17338"/>
                </a:cubicBezTo>
                <a:cubicBezTo>
                  <a:pt x="14383" y="17350"/>
                  <a:pt x="14598" y="17364"/>
                  <a:pt x="14560" y="17239"/>
                </a:cubicBezTo>
                <a:cubicBezTo>
                  <a:pt x="14530" y="17140"/>
                  <a:pt x="14490" y="17165"/>
                  <a:pt x="14412" y="17165"/>
                </a:cubicBezTo>
              </a:path>
              <a:path w="7095" h="3498">
                <a:moveTo>
                  <a:pt x="14238" y="16942"/>
                </a:moveTo>
                <a:cubicBezTo>
                  <a:pt x="14133" y="16872"/>
                  <a:pt x="14021" y="16761"/>
                  <a:pt x="13965" y="16644"/>
                </a:cubicBezTo>
                <a:cubicBezTo>
                  <a:pt x="13891" y="16489"/>
                  <a:pt x="13884" y="16359"/>
                  <a:pt x="13915" y="16197"/>
                </a:cubicBezTo>
                <a:cubicBezTo>
                  <a:pt x="13951" y="16011"/>
                  <a:pt x="14015" y="15938"/>
                  <a:pt x="14163" y="15825"/>
                </a:cubicBezTo>
                <a:cubicBezTo>
                  <a:pt x="14286" y="15731"/>
                  <a:pt x="14450" y="15659"/>
                  <a:pt x="14610" y="15677"/>
                </a:cubicBezTo>
                <a:cubicBezTo>
                  <a:pt x="14685" y="15686"/>
                  <a:pt x="14749" y="15711"/>
                  <a:pt x="14808" y="15751"/>
                </a:cubicBezTo>
              </a:path>
              <a:path w="7095" h="3498">
                <a:moveTo>
                  <a:pt x="14982" y="15503"/>
                </a:moveTo>
                <a:cubicBezTo>
                  <a:pt x="15013" y="15609"/>
                  <a:pt x="15041" y="15716"/>
                  <a:pt x="15056" y="15825"/>
                </a:cubicBezTo>
              </a:path>
              <a:path w="7095" h="3498">
                <a:moveTo>
                  <a:pt x="14858" y="15701"/>
                </a:moveTo>
                <a:cubicBezTo>
                  <a:pt x="14941" y="15701"/>
                  <a:pt x="15023" y="15701"/>
                  <a:pt x="15106" y="15701"/>
                </a:cubicBezTo>
              </a:path>
              <a:path w="7095" h="3498">
                <a:moveTo>
                  <a:pt x="15429" y="17562"/>
                </a:moveTo>
                <a:cubicBezTo>
                  <a:pt x="15594" y="17525"/>
                  <a:pt x="15600" y="17645"/>
                  <a:pt x="15528" y="17785"/>
                </a:cubicBezTo>
                <a:cubicBezTo>
                  <a:pt x="15471" y="17896"/>
                  <a:pt x="15438" y="17893"/>
                  <a:pt x="15329" y="17909"/>
                </a:cubicBezTo>
                <a:cubicBezTo>
                  <a:pt x="15314" y="17763"/>
                  <a:pt x="15396" y="17804"/>
                  <a:pt x="15528" y="17835"/>
                </a:cubicBezTo>
              </a:path>
              <a:path w="7095" h="3498">
                <a:moveTo>
                  <a:pt x="15701" y="17462"/>
                </a:moveTo>
                <a:cubicBezTo>
                  <a:pt x="15752" y="17462"/>
                  <a:pt x="15892" y="17438"/>
                  <a:pt x="15925" y="17487"/>
                </a:cubicBezTo>
                <a:cubicBezTo>
                  <a:pt x="15977" y="17565"/>
                  <a:pt x="15866" y="17602"/>
                  <a:pt x="15825" y="17636"/>
                </a:cubicBezTo>
                <a:cubicBezTo>
                  <a:pt x="15898" y="17636"/>
                  <a:pt x="16049" y="17636"/>
                  <a:pt x="15949" y="17760"/>
                </a:cubicBezTo>
                <a:cubicBezTo>
                  <a:pt x="15885" y="17840"/>
                  <a:pt x="15804" y="17826"/>
                  <a:pt x="15726" y="17810"/>
                </a:cubicBezTo>
              </a:path>
              <a:path w="7095" h="3498">
                <a:moveTo>
                  <a:pt x="15230" y="18107"/>
                </a:moveTo>
                <a:cubicBezTo>
                  <a:pt x="15397" y="18061"/>
                  <a:pt x="15626" y="17975"/>
                  <a:pt x="15801" y="17983"/>
                </a:cubicBezTo>
                <a:cubicBezTo>
                  <a:pt x="15823" y="18006"/>
                  <a:pt x="15828" y="18014"/>
                  <a:pt x="15850" y="18008"/>
                </a:cubicBezTo>
              </a:path>
              <a:path w="7095" h="3498">
                <a:moveTo>
                  <a:pt x="10021" y="18132"/>
                </a:moveTo>
                <a:cubicBezTo>
                  <a:pt x="10108" y="18123"/>
                  <a:pt x="10177" y="18095"/>
                  <a:pt x="10269" y="18083"/>
                </a:cubicBezTo>
                <a:cubicBezTo>
                  <a:pt x="10344" y="18073"/>
                  <a:pt x="10364" y="18084"/>
                  <a:pt x="10368" y="18157"/>
                </a:cubicBezTo>
                <a:cubicBezTo>
                  <a:pt x="10372" y="18235"/>
                  <a:pt x="10375" y="18282"/>
                  <a:pt x="10393" y="18355"/>
                </a:cubicBezTo>
                <a:cubicBezTo>
                  <a:pt x="10398" y="18376"/>
                  <a:pt x="10393" y="18408"/>
                  <a:pt x="10393" y="18430"/>
                </a:cubicBezTo>
              </a:path>
              <a:path w="7095" h="3498">
                <a:moveTo>
                  <a:pt x="10616" y="18083"/>
                </a:moveTo>
                <a:cubicBezTo>
                  <a:pt x="10659" y="18156"/>
                  <a:pt x="10700" y="18224"/>
                  <a:pt x="10716" y="18306"/>
                </a:cubicBezTo>
              </a:path>
              <a:path w="7095" h="3498">
                <a:moveTo>
                  <a:pt x="10740" y="17909"/>
                </a:moveTo>
                <a:cubicBezTo>
                  <a:pt x="10817" y="17900"/>
                  <a:pt x="10885" y="17884"/>
                  <a:pt x="10964" y="17884"/>
                </a:cubicBezTo>
                <a:cubicBezTo>
                  <a:pt x="10876" y="18081"/>
                  <a:pt x="10956" y="17933"/>
                  <a:pt x="11063" y="18033"/>
                </a:cubicBezTo>
                <a:cubicBezTo>
                  <a:pt x="11129" y="18095"/>
                  <a:pt x="11052" y="18182"/>
                  <a:pt x="10988" y="18207"/>
                </a:cubicBezTo>
                <a:cubicBezTo>
                  <a:pt x="10980" y="18207"/>
                  <a:pt x="10972" y="18207"/>
                  <a:pt x="10964" y="18207"/>
                </a:cubicBezTo>
              </a:path>
              <a:path w="7095" h="3498">
                <a:moveTo>
                  <a:pt x="9971" y="18529"/>
                </a:moveTo>
                <a:cubicBezTo>
                  <a:pt x="9951" y="18503"/>
                  <a:pt x="9899" y="18429"/>
                  <a:pt x="9872" y="18380"/>
                </a:cubicBezTo>
                <a:cubicBezTo>
                  <a:pt x="9804" y="18255"/>
                  <a:pt x="9779" y="18104"/>
                  <a:pt x="9723" y="17983"/>
                </a:cubicBezTo>
                <a:cubicBezTo>
                  <a:pt x="9715" y="17975"/>
                  <a:pt x="9707" y="17967"/>
                  <a:pt x="9699" y="17959"/>
                </a:cubicBezTo>
                <a:cubicBezTo>
                  <a:pt x="9769" y="17950"/>
                  <a:pt x="9855" y="17950"/>
                  <a:pt x="9922" y="17934"/>
                </a:cubicBezTo>
                <a:cubicBezTo>
                  <a:pt x="10181" y="17873"/>
                  <a:pt x="10427" y="17824"/>
                  <a:pt x="10691" y="17785"/>
                </a:cubicBezTo>
                <a:cubicBezTo>
                  <a:pt x="10810" y="17768"/>
                  <a:pt x="10918" y="17735"/>
                  <a:pt x="11038" y="17735"/>
                </a:cubicBezTo>
                <a:cubicBezTo>
                  <a:pt x="11046" y="17735"/>
                  <a:pt x="11055" y="17735"/>
                  <a:pt x="11063" y="17735"/>
                </a:cubicBezTo>
              </a:path>
              <a:path w="7095" h="3498">
                <a:moveTo>
                  <a:pt x="8880" y="18231"/>
                </a:moveTo>
                <a:cubicBezTo>
                  <a:pt x="8896" y="18334"/>
                  <a:pt x="8939" y="18427"/>
                  <a:pt x="8954" y="18529"/>
                </a:cubicBezTo>
                <a:cubicBezTo>
                  <a:pt x="8954" y="18574"/>
                  <a:pt x="8951" y="18594"/>
                  <a:pt x="8979" y="18554"/>
                </a:cubicBezTo>
              </a:path>
              <a:path w="7095" h="3498">
                <a:moveTo>
                  <a:pt x="9351" y="18083"/>
                </a:moveTo>
                <a:cubicBezTo>
                  <a:pt x="9290" y="18123"/>
                  <a:pt x="9221" y="18160"/>
                  <a:pt x="9203" y="18231"/>
                </a:cubicBezTo>
                <a:cubicBezTo>
                  <a:pt x="9284" y="18278"/>
                  <a:pt x="9409" y="18262"/>
                  <a:pt x="9426" y="18355"/>
                </a:cubicBezTo>
                <a:cubicBezTo>
                  <a:pt x="9426" y="18424"/>
                  <a:pt x="9432" y="18446"/>
                  <a:pt x="9376" y="18455"/>
                </a:cubicBezTo>
                <a:cubicBezTo>
                  <a:pt x="9281" y="18406"/>
                  <a:pt x="9343" y="18284"/>
                  <a:pt x="9401" y="18182"/>
                </a:cubicBezTo>
                <a:cubicBezTo>
                  <a:pt x="9423" y="18143"/>
                  <a:pt x="9447" y="18147"/>
                  <a:pt x="9401" y="18132"/>
                </a:cubicBezTo>
              </a:path>
              <a:path w="7095" h="3498">
                <a:moveTo>
                  <a:pt x="10344" y="17462"/>
                </a:moveTo>
                <a:cubicBezTo>
                  <a:pt x="10356" y="17413"/>
                  <a:pt x="10380" y="17417"/>
                  <a:pt x="10418" y="17388"/>
                </a:cubicBezTo>
                <a:cubicBezTo>
                  <a:pt x="10427" y="17489"/>
                  <a:pt x="10442" y="17463"/>
                  <a:pt x="10368" y="17537"/>
                </a:cubicBezTo>
                <a:cubicBezTo>
                  <a:pt x="10424" y="17526"/>
                  <a:pt x="10465" y="17486"/>
                  <a:pt x="10492" y="17537"/>
                </a:cubicBezTo>
                <a:cubicBezTo>
                  <a:pt x="10535" y="17617"/>
                  <a:pt x="10495" y="17626"/>
                  <a:pt x="10443" y="17661"/>
                </a:cubicBezTo>
                <a:cubicBezTo>
                  <a:pt x="10420" y="17684"/>
                  <a:pt x="10416" y="17692"/>
                  <a:pt x="10393" y="17686"/>
                </a:cubicBezTo>
              </a:path>
              <a:path w="7095" h="3498">
                <a:moveTo>
                  <a:pt x="10517" y="18430"/>
                </a:moveTo>
                <a:cubicBezTo>
                  <a:pt x="10475" y="18441"/>
                  <a:pt x="10438" y="18492"/>
                  <a:pt x="10418" y="18504"/>
                </a:cubicBezTo>
                <a:cubicBezTo>
                  <a:pt x="10393" y="18504"/>
                  <a:pt x="10385" y="18504"/>
                  <a:pt x="10393" y="18529"/>
                </a:cubicBezTo>
                <a:cubicBezTo>
                  <a:pt x="10430" y="18538"/>
                  <a:pt x="10488" y="18573"/>
                  <a:pt x="10492" y="18604"/>
                </a:cubicBezTo>
                <a:cubicBezTo>
                  <a:pt x="10497" y="18646"/>
                  <a:pt x="10473" y="18645"/>
                  <a:pt x="10443" y="18653"/>
                </a:cubicBezTo>
              </a:path>
              <a:path w="7095" h="3498">
                <a:moveTo>
                  <a:pt x="10716" y="18479"/>
                </a:moveTo>
                <a:cubicBezTo>
                  <a:pt x="10716" y="18454"/>
                  <a:pt x="10716" y="18430"/>
                  <a:pt x="10716" y="18405"/>
                </a:cubicBezTo>
                <a:cubicBezTo>
                  <a:pt x="10736" y="18446"/>
                  <a:pt x="10716" y="18468"/>
                  <a:pt x="10716" y="18529"/>
                </a:cubicBezTo>
                <a:cubicBezTo>
                  <a:pt x="10716" y="18554"/>
                  <a:pt x="10716" y="18562"/>
                  <a:pt x="10716" y="18579"/>
                </a:cubicBezTo>
              </a:path>
              <a:path w="7095" h="3498">
                <a:moveTo>
                  <a:pt x="10468" y="18802"/>
                </a:moveTo>
                <a:cubicBezTo>
                  <a:pt x="10517" y="18720"/>
                  <a:pt x="10647" y="18692"/>
                  <a:pt x="10740" y="18653"/>
                </a:cubicBezTo>
                <a:cubicBezTo>
                  <a:pt x="10767" y="18642"/>
                  <a:pt x="10926" y="18620"/>
                  <a:pt x="10939" y="18604"/>
                </a:cubicBezTo>
                <a:cubicBezTo>
                  <a:pt x="10939" y="18579"/>
                  <a:pt x="10939" y="18571"/>
                  <a:pt x="10964" y="18579"/>
                </a:cubicBezTo>
              </a:path>
              <a:path w="7095" h="3498">
                <a:moveTo>
                  <a:pt x="10691" y="18405"/>
                </a:moveTo>
                <a:cubicBezTo>
                  <a:pt x="10691" y="18438"/>
                  <a:pt x="10691" y="18471"/>
                  <a:pt x="10691" y="18504"/>
                </a:cubicBezTo>
                <a:cubicBezTo>
                  <a:pt x="10768" y="18496"/>
                  <a:pt x="10792" y="18469"/>
                  <a:pt x="10864" y="18455"/>
                </a:cubicBezTo>
              </a:path>
              <a:path w="7095" h="3498">
                <a:moveTo>
                  <a:pt x="10790" y="18281"/>
                </a:moveTo>
                <a:cubicBezTo>
                  <a:pt x="10790" y="18363"/>
                  <a:pt x="10807" y="18429"/>
                  <a:pt x="10840" y="18504"/>
                </a:cubicBezTo>
                <a:cubicBezTo>
                  <a:pt x="10860" y="18545"/>
                  <a:pt x="10868" y="18551"/>
                  <a:pt x="10864" y="18579"/>
                </a:cubicBezTo>
              </a:path>
              <a:path w="7095" h="3498">
                <a:moveTo>
                  <a:pt x="10740" y="18901"/>
                </a:moveTo>
                <a:cubicBezTo>
                  <a:pt x="10740" y="18840"/>
                  <a:pt x="10740" y="18971"/>
                  <a:pt x="10740" y="19000"/>
                </a:cubicBezTo>
              </a:path>
              <a:path w="7095" h="3498">
                <a:moveTo>
                  <a:pt x="10914" y="18802"/>
                </a:moveTo>
                <a:cubicBezTo>
                  <a:pt x="10988" y="18781"/>
                  <a:pt x="11046" y="18741"/>
                  <a:pt x="11112" y="18703"/>
                </a:cubicBezTo>
                <a:cubicBezTo>
                  <a:pt x="11112" y="18770"/>
                  <a:pt x="11094" y="18873"/>
                  <a:pt x="11137" y="18901"/>
                </a:cubicBezTo>
              </a:path>
              <a:path w="7095" h="3498">
                <a:moveTo>
                  <a:pt x="11311" y="18579"/>
                </a:moveTo>
                <a:cubicBezTo>
                  <a:pt x="11319" y="18566"/>
                  <a:pt x="11398" y="18455"/>
                  <a:pt x="11435" y="18479"/>
                </a:cubicBezTo>
                <a:cubicBezTo>
                  <a:pt x="11527" y="18538"/>
                  <a:pt x="11452" y="18563"/>
                  <a:pt x="11435" y="18628"/>
                </a:cubicBezTo>
                <a:cubicBezTo>
                  <a:pt x="11527" y="18590"/>
                  <a:pt x="11605" y="18585"/>
                  <a:pt x="11559" y="18703"/>
                </a:cubicBezTo>
                <a:cubicBezTo>
                  <a:pt x="11539" y="18755"/>
                  <a:pt x="11509" y="18790"/>
                  <a:pt x="11460" y="18802"/>
                </a:cubicBezTo>
              </a:path>
              <a:path w="7095" h="3498">
                <a:moveTo>
                  <a:pt x="10815" y="17388"/>
                </a:moveTo>
                <a:cubicBezTo>
                  <a:pt x="10789" y="17335"/>
                  <a:pt x="10751" y="17322"/>
                  <a:pt x="10691" y="17314"/>
                </a:cubicBezTo>
                <a:cubicBezTo>
                  <a:pt x="10663" y="17356"/>
                  <a:pt x="10605" y="17438"/>
                  <a:pt x="10691" y="17462"/>
                </a:cubicBezTo>
                <a:cubicBezTo>
                  <a:pt x="10791" y="17490"/>
                  <a:pt x="10790" y="17413"/>
                  <a:pt x="10815" y="17363"/>
                </a:cubicBezTo>
                <a:cubicBezTo>
                  <a:pt x="10815" y="17371"/>
                  <a:pt x="10815" y="17380"/>
                  <a:pt x="10815" y="17388"/>
                </a:cubicBezTo>
                <a:cubicBezTo>
                  <a:pt x="10836" y="17472"/>
                  <a:pt x="10870" y="17561"/>
                  <a:pt x="10889" y="17636"/>
                </a:cubicBezTo>
              </a:path>
              <a:path w="7095" h="3498">
                <a:moveTo>
                  <a:pt x="11906" y="17587"/>
                </a:moveTo>
                <a:cubicBezTo>
                  <a:pt x="11939" y="17543"/>
                  <a:pt x="11993" y="17521"/>
                  <a:pt x="12055" y="17512"/>
                </a:cubicBezTo>
                <a:cubicBezTo>
                  <a:pt x="12078" y="17647"/>
                  <a:pt x="12051" y="17702"/>
                  <a:pt x="11906" y="17760"/>
                </a:cubicBezTo>
                <a:cubicBezTo>
                  <a:pt x="11898" y="17760"/>
                  <a:pt x="11889" y="17760"/>
                  <a:pt x="11881" y="17760"/>
                </a:cubicBezTo>
                <a:cubicBezTo>
                  <a:pt x="11947" y="17738"/>
                  <a:pt x="12115" y="17726"/>
                  <a:pt x="12105" y="17859"/>
                </a:cubicBezTo>
                <a:cubicBezTo>
                  <a:pt x="12095" y="17991"/>
                  <a:pt x="11884" y="18072"/>
                  <a:pt x="11782" y="18008"/>
                </a:cubicBezTo>
                <a:cubicBezTo>
                  <a:pt x="11750" y="17945"/>
                  <a:pt x="11745" y="17913"/>
                  <a:pt x="11782" y="17859"/>
                </a:cubicBezTo>
              </a:path>
              <a:path w="7095" h="3498">
                <a:moveTo>
                  <a:pt x="12452" y="17537"/>
                </a:moveTo>
                <a:cubicBezTo>
                  <a:pt x="12421" y="17483"/>
                  <a:pt x="12384" y="17391"/>
                  <a:pt x="12303" y="17462"/>
                </a:cubicBezTo>
                <a:cubicBezTo>
                  <a:pt x="12232" y="17558"/>
                  <a:pt x="12209" y="17588"/>
                  <a:pt x="12179" y="17661"/>
                </a:cubicBezTo>
                <a:cubicBezTo>
                  <a:pt x="12171" y="17669"/>
                  <a:pt x="12162" y="17678"/>
                  <a:pt x="12154" y="17686"/>
                </a:cubicBezTo>
                <a:cubicBezTo>
                  <a:pt x="12299" y="17657"/>
                  <a:pt x="12286" y="17596"/>
                  <a:pt x="12378" y="17512"/>
                </a:cubicBezTo>
                <a:cubicBezTo>
                  <a:pt x="12386" y="17512"/>
                  <a:pt x="12394" y="17512"/>
                  <a:pt x="12402" y="17512"/>
                </a:cubicBezTo>
                <a:cubicBezTo>
                  <a:pt x="12402" y="17617"/>
                  <a:pt x="12395" y="17732"/>
                  <a:pt x="12378" y="17835"/>
                </a:cubicBezTo>
                <a:cubicBezTo>
                  <a:pt x="12342" y="18055"/>
                  <a:pt x="12340" y="17964"/>
                  <a:pt x="12402" y="17760"/>
                </a:cubicBezTo>
              </a:path>
              <a:path w="7095" h="3498">
                <a:moveTo>
                  <a:pt x="12650" y="16966"/>
                </a:moveTo>
                <a:cubicBezTo>
                  <a:pt x="12650" y="17052"/>
                  <a:pt x="12604" y="17404"/>
                  <a:pt x="12675" y="17239"/>
                </a:cubicBezTo>
              </a:path>
              <a:path w="7095" h="3498">
                <a:moveTo>
                  <a:pt x="12874" y="16892"/>
                </a:moveTo>
                <a:cubicBezTo>
                  <a:pt x="12908" y="17041"/>
                  <a:pt x="12907" y="17140"/>
                  <a:pt x="12898" y="17289"/>
                </a:cubicBezTo>
                <a:cubicBezTo>
                  <a:pt x="12898" y="17314"/>
                  <a:pt x="12898" y="17322"/>
                  <a:pt x="12898" y="17338"/>
                </a:cubicBezTo>
              </a:path>
              <a:path w="7095" h="3498">
                <a:moveTo>
                  <a:pt x="12601" y="17537"/>
                </a:moveTo>
                <a:cubicBezTo>
                  <a:pt x="12685" y="17520"/>
                  <a:pt x="12764" y="17466"/>
                  <a:pt x="12849" y="17438"/>
                </a:cubicBezTo>
                <a:cubicBezTo>
                  <a:pt x="12900" y="17421"/>
                  <a:pt x="12947" y="17398"/>
                  <a:pt x="12998" y="17388"/>
                </a:cubicBezTo>
              </a:path>
              <a:path w="7095" h="3498">
                <a:moveTo>
                  <a:pt x="13047" y="17562"/>
                </a:moveTo>
                <a:cubicBezTo>
                  <a:pt x="13010" y="17574"/>
                  <a:pt x="12953" y="17631"/>
                  <a:pt x="12898" y="17661"/>
                </a:cubicBezTo>
                <a:cubicBezTo>
                  <a:pt x="12943" y="17750"/>
                  <a:pt x="13073" y="17701"/>
                  <a:pt x="13146" y="17785"/>
                </a:cubicBezTo>
                <a:cubicBezTo>
                  <a:pt x="13240" y="17893"/>
                  <a:pt x="13108" y="17917"/>
                  <a:pt x="13047" y="17934"/>
                </a:cubicBezTo>
                <a:cubicBezTo>
                  <a:pt x="13018" y="17832"/>
                  <a:pt x="13083" y="17721"/>
                  <a:pt x="13122" y="17611"/>
                </a:cubicBezTo>
              </a:path>
              <a:path w="7095" h="3498">
                <a:moveTo>
                  <a:pt x="11708" y="18231"/>
                </a:moveTo>
                <a:cubicBezTo>
                  <a:pt x="11811" y="18211"/>
                  <a:pt x="11896" y="18207"/>
                  <a:pt x="12005" y="18207"/>
                </a:cubicBezTo>
                <a:cubicBezTo>
                  <a:pt x="12199" y="18207"/>
                  <a:pt x="12384" y="18226"/>
                  <a:pt x="12576" y="18231"/>
                </a:cubicBezTo>
                <a:cubicBezTo>
                  <a:pt x="12713" y="18234"/>
                  <a:pt x="12816" y="18216"/>
                  <a:pt x="12948" y="18182"/>
                </a:cubicBezTo>
                <a:cubicBezTo>
                  <a:pt x="13069" y="18151"/>
                  <a:pt x="13272" y="18116"/>
                  <a:pt x="13370" y="18033"/>
                </a:cubicBezTo>
                <a:cubicBezTo>
                  <a:pt x="13409" y="18000"/>
                  <a:pt x="13449" y="17892"/>
                  <a:pt x="13469" y="17835"/>
                </a:cubicBezTo>
                <a:cubicBezTo>
                  <a:pt x="13497" y="17756"/>
                  <a:pt x="13494" y="17697"/>
                  <a:pt x="13494" y="17611"/>
                </a:cubicBezTo>
                <a:cubicBezTo>
                  <a:pt x="13494" y="17498"/>
                  <a:pt x="13479" y="17397"/>
                  <a:pt x="13469" y="17289"/>
                </a:cubicBezTo>
                <a:cubicBezTo>
                  <a:pt x="13460" y="17192"/>
                  <a:pt x="13461" y="17087"/>
                  <a:pt x="13444" y="16991"/>
                </a:cubicBezTo>
                <a:cubicBezTo>
                  <a:pt x="13427" y="16895"/>
                  <a:pt x="13422" y="16822"/>
                  <a:pt x="13370" y="16743"/>
                </a:cubicBezTo>
                <a:cubicBezTo>
                  <a:pt x="13346" y="16707"/>
                  <a:pt x="13295" y="16589"/>
                  <a:pt x="13271" y="16570"/>
                </a:cubicBezTo>
                <a:cubicBezTo>
                  <a:pt x="13197" y="16511"/>
                  <a:pt x="13041" y="16482"/>
                  <a:pt x="12948" y="16495"/>
                </a:cubicBezTo>
                <a:cubicBezTo>
                  <a:pt x="12863" y="16507"/>
                  <a:pt x="12723" y="16570"/>
                  <a:pt x="12650" y="16619"/>
                </a:cubicBezTo>
                <a:cubicBezTo>
                  <a:pt x="12608" y="16647"/>
                  <a:pt x="12487" y="16728"/>
                  <a:pt x="12452" y="16768"/>
                </a:cubicBezTo>
                <a:cubicBezTo>
                  <a:pt x="12411" y="16814"/>
                  <a:pt x="12367" y="16872"/>
                  <a:pt x="12328" y="16917"/>
                </a:cubicBezTo>
                <a:cubicBezTo>
                  <a:pt x="12264" y="16991"/>
                  <a:pt x="12217" y="17088"/>
                  <a:pt x="12154" y="17165"/>
                </a:cubicBezTo>
                <a:cubicBezTo>
                  <a:pt x="12101" y="17230"/>
                  <a:pt x="12011" y="17268"/>
                  <a:pt x="11931" y="17289"/>
                </a:cubicBezTo>
                <a:cubicBezTo>
                  <a:pt x="11859" y="17308"/>
                  <a:pt x="11773" y="17319"/>
                  <a:pt x="11708" y="17338"/>
                </a:cubicBezTo>
                <a:cubicBezTo>
                  <a:pt x="11615" y="17366"/>
                  <a:pt x="11558" y="17381"/>
                  <a:pt x="11509" y="17462"/>
                </a:cubicBezTo>
                <a:cubicBezTo>
                  <a:pt x="11451" y="17559"/>
                  <a:pt x="11478" y="17737"/>
                  <a:pt x="11485" y="17835"/>
                </a:cubicBezTo>
                <a:cubicBezTo>
                  <a:pt x="11493" y="17938"/>
                  <a:pt x="11542" y="18008"/>
                  <a:pt x="11559" y="18107"/>
                </a:cubicBezTo>
                <a:cubicBezTo>
                  <a:pt x="11589" y="18279"/>
                  <a:pt x="11500" y="18301"/>
                  <a:pt x="11658" y="18380"/>
                </a:cubicBezTo>
                <a:cubicBezTo>
                  <a:pt x="11705" y="18404"/>
                  <a:pt x="11670" y="18402"/>
                  <a:pt x="11757" y="18380"/>
                </a:cubicBezTo>
                <a:cubicBezTo>
                  <a:pt x="11774" y="18372"/>
                  <a:pt x="11790" y="18363"/>
                  <a:pt x="11807" y="183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80120" y="6018120"/>
            <a:ext cx="27000" cy="46080"/>
          </a:xfrm>
          <a:custGeom>
            <a:avLst/>
            <a:gdLst/>
            <a:ahLst/>
            <a:rect l="l" t="t" r="r" b="b"/>
            <a:pathLst>
              <a:path w="75" h="125">
                <a:moveTo>
                  <a:pt x="17165" y="16718"/>
                </a:moveTo>
                <a:cubicBezTo>
                  <a:pt x="17165" y="16810"/>
                  <a:pt x="17154" y="16829"/>
                  <a:pt x="17239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67320" y="5938920"/>
            <a:ext cx="7956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7686" y="16570"/>
                </a:moveTo>
                <a:cubicBezTo>
                  <a:pt x="17699" y="16591"/>
                  <a:pt x="17789" y="16703"/>
                  <a:pt x="17810" y="16718"/>
                </a:cubicBezTo>
                <a:cubicBezTo>
                  <a:pt x="17818" y="16718"/>
                  <a:pt x="17827" y="16718"/>
                  <a:pt x="17835" y="16718"/>
                </a:cubicBezTo>
              </a:path>
              <a:path w="224" h="274">
                <a:moveTo>
                  <a:pt x="17909" y="16495"/>
                </a:moveTo>
                <a:cubicBezTo>
                  <a:pt x="17849" y="16579"/>
                  <a:pt x="17807" y="16675"/>
                  <a:pt x="17760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81840" y="6027840"/>
            <a:ext cx="61920" cy="115920"/>
          </a:xfrm>
          <a:custGeom>
            <a:avLst/>
            <a:gdLst/>
            <a:ahLst/>
            <a:rect l="l" t="t" r="r" b="b"/>
            <a:pathLst>
              <a:path w="175" h="324">
                <a:moveTo>
                  <a:pt x="16991" y="16743"/>
                </a:moveTo>
                <a:cubicBezTo>
                  <a:pt x="16947" y="16765"/>
                  <a:pt x="16925" y="16815"/>
                  <a:pt x="16892" y="16867"/>
                </a:cubicBezTo>
                <a:cubicBezTo>
                  <a:pt x="16971" y="16883"/>
                  <a:pt x="17016" y="16909"/>
                  <a:pt x="17066" y="16966"/>
                </a:cubicBezTo>
                <a:cubicBezTo>
                  <a:pt x="16985" y="17096"/>
                  <a:pt x="16975" y="17091"/>
                  <a:pt x="16892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45080" y="6384960"/>
            <a:ext cx="893880" cy="303120"/>
          </a:xfrm>
          <a:custGeom>
            <a:avLst/>
            <a:gdLst/>
            <a:ahLst/>
            <a:rect l="l" t="t" r="r" b="b"/>
            <a:pathLst>
              <a:path w="2481" h="845">
                <a:moveTo>
                  <a:pt x="15453" y="18281"/>
                </a:moveTo>
                <a:cubicBezTo>
                  <a:pt x="15416" y="18328"/>
                  <a:pt x="15411" y="18346"/>
                  <a:pt x="15404" y="18405"/>
                </a:cubicBezTo>
                <a:cubicBezTo>
                  <a:pt x="15580" y="18396"/>
                  <a:pt x="15657" y="18407"/>
                  <a:pt x="15701" y="18231"/>
                </a:cubicBezTo>
              </a:path>
              <a:path w="2481" h="845">
                <a:moveTo>
                  <a:pt x="15652" y="18132"/>
                </a:moveTo>
                <a:cubicBezTo>
                  <a:pt x="15631" y="18281"/>
                  <a:pt x="15616" y="18429"/>
                  <a:pt x="15602" y="18579"/>
                </a:cubicBezTo>
              </a:path>
              <a:path w="2481" h="845">
                <a:moveTo>
                  <a:pt x="16346" y="17959"/>
                </a:moveTo>
                <a:cubicBezTo>
                  <a:pt x="16380" y="18077"/>
                  <a:pt x="16455" y="18121"/>
                  <a:pt x="16520" y="18207"/>
                </a:cubicBezTo>
                <a:cubicBezTo>
                  <a:pt x="16520" y="18215"/>
                  <a:pt x="16520" y="18223"/>
                  <a:pt x="16520" y="18231"/>
                </a:cubicBezTo>
              </a:path>
              <a:path w="2481" h="845">
                <a:moveTo>
                  <a:pt x="16446" y="18008"/>
                </a:moveTo>
                <a:cubicBezTo>
                  <a:pt x="16381" y="18138"/>
                  <a:pt x="16361" y="18166"/>
                  <a:pt x="16346" y="18256"/>
                </a:cubicBezTo>
              </a:path>
              <a:path w="2481" h="845">
                <a:moveTo>
                  <a:pt x="15875" y="18256"/>
                </a:moveTo>
                <a:lnTo>
                  <a:pt x="15875" y="18256"/>
                </a:lnTo>
              </a:path>
              <a:path w="2481" h="845">
                <a:moveTo>
                  <a:pt x="15825" y="18579"/>
                </a:moveTo>
                <a:lnTo>
                  <a:pt x="15825" y="18579"/>
                </a:lnTo>
              </a:path>
              <a:path w="2481" h="845">
                <a:moveTo>
                  <a:pt x="17884" y="17735"/>
                </a:moveTo>
                <a:lnTo>
                  <a:pt x="17884" y="17735"/>
                </a:lnTo>
                <a:lnTo>
                  <a:pt x="17884" y="17735"/>
                </a:lnTo>
              </a:path>
              <a:path w="2481" h="845">
                <a:moveTo>
                  <a:pt x="17884" y="17735"/>
                </a:moveTo>
                <a:lnTo>
                  <a:pt x="17884" y="177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68960" y="6589800"/>
            <a:ext cx="704880" cy="196920"/>
          </a:xfrm>
          <a:custGeom>
            <a:avLst/>
            <a:gdLst/>
            <a:ahLst/>
            <a:rect l="l" t="t" r="r" b="b"/>
            <a:pathLst>
              <a:path w="1960" h="547">
                <a:moveTo>
                  <a:pt x="15776" y="18405"/>
                </a:moveTo>
                <a:cubicBezTo>
                  <a:pt x="15807" y="18405"/>
                  <a:pt x="15840" y="18430"/>
                  <a:pt x="15900" y="18430"/>
                </a:cubicBezTo>
              </a:path>
              <a:path w="1960" h="547">
                <a:moveTo>
                  <a:pt x="16024" y="18405"/>
                </a:moveTo>
                <a:cubicBezTo>
                  <a:pt x="16067" y="18386"/>
                  <a:pt x="16152" y="18359"/>
                  <a:pt x="16148" y="18455"/>
                </a:cubicBezTo>
                <a:cubicBezTo>
                  <a:pt x="16145" y="18526"/>
                  <a:pt x="16093" y="18559"/>
                  <a:pt x="16049" y="18604"/>
                </a:cubicBezTo>
                <a:cubicBezTo>
                  <a:pt x="16087" y="18616"/>
                  <a:pt x="16148" y="18622"/>
                  <a:pt x="16197" y="18604"/>
                </a:cubicBezTo>
                <a:cubicBezTo>
                  <a:pt x="16214" y="18596"/>
                  <a:pt x="16230" y="18587"/>
                  <a:pt x="16247" y="18579"/>
                </a:cubicBezTo>
              </a:path>
              <a:path w="1960" h="547">
                <a:moveTo>
                  <a:pt x="15156" y="18331"/>
                </a:moveTo>
                <a:cubicBezTo>
                  <a:pt x="15186" y="18313"/>
                  <a:pt x="15182" y="18309"/>
                  <a:pt x="15230" y="18306"/>
                </a:cubicBezTo>
                <a:cubicBezTo>
                  <a:pt x="15310" y="18301"/>
                  <a:pt x="15294" y="18329"/>
                  <a:pt x="15379" y="18355"/>
                </a:cubicBezTo>
                <a:cubicBezTo>
                  <a:pt x="15556" y="18409"/>
                  <a:pt x="15703" y="18488"/>
                  <a:pt x="15875" y="18554"/>
                </a:cubicBezTo>
                <a:cubicBezTo>
                  <a:pt x="16018" y="18609"/>
                  <a:pt x="16156" y="18646"/>
                  <a:pt x="16297" y="18703"/>
                </a:cubicBezTo>
                <a:cubicBezTo>
                  <a:pt x="16396" y="18743"/>
                  <a:pt x="16483" y="18761"/>
                  <a:pt x="16570" y="18827"/>
                </a:cubicBezTo>
                <a:cubicBezTo>
                  <a:pt x="16599" y="18857"/>
                  <a:pt x="16601" y="18862"/>
                  <a:pt x="16545" y="18827"/>
                </a:cubicBezTo>
              </a:path>
              <a:path w="1960" h="547">
                <a:moveTo>
                  <a:pt x="14734" y="18405"/>
                </a:moveTo>
                <a:cubicBezTo>
                  <a:pt x="14667" y="18405"/>
                  <a:pt x="14744" y="18356"/>
                  <a:pt x="14784" y="18306"/>
                </a:cubicBezTo>
                <a:cubicBezTo>
                  <a:pt x="14963" y="18351"/>
                  <a:pt x="14993" y="18472"/>
                  <a:pt x="14908" y="18653"/>
                </a:cubicBezTo>
                <a:cubicBezTo>
                  <a:pt x="14834" y="18810"/>
                  <a:pt x="14689" y="18907"/>
                  <a:pt x="14635" y="18728"/>
                </a:cubicBezTo>
                <a:cubicBezTo>
                  <a:pt x="14674" y="18588"/>
                  <a:pt x="14794" y="18671"/>
                  <a:pt x="14908" y="18703"/>
                </a:cubicBezTo>
                <a:cubicBezTo>
                  <a:pt x="15021" y="18735"/>
                  <a:pt x="15041" y="18819"/>
                  <a:pt x="15081" y="187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07040" y="6143760"/>
            <a:ext cx="804960" cy="509400"/>
          </a:xfrm>
          <a:custGeom>
            <a:avLst/>
            <a:gdLst/>
            <a:ahLst/>
            <a:rect l="l" t="t" r="r" b="b"/>
            <a:pathLst>
              <a:path w="2234" h="1414">
                <a:moveTo>
                  <a:pt x="17140" y="17462"/>
                </a:moveTo>
                <a:cubicBezTo>
                  <a:pt x="17140" y="17548"/>
                  <a:pt x="17091" y="17651"/>
                  <a:pt x="17066" y="17735"/>
                </a:cubicBezTo>
                <a:cubicBezTo>
                  <a:pt x="17025" y="17876"/>
                  <a:pt x="17107" y="17885"/>
                  <a:pt x="17214" y="17785"/>
                </a:cubicBezTo>
                <a:cubicBezTo>
                  <a:pt x="17239" y="17752"/>
                  <a:pt x="17264" y="17719"/>
                  <a:pt x="17289" y="17686"/>
                </a:cubicBezTo>
                <a:cubicBezTo>
                  <a:pt x="17272" y="17686"/>
                  <a:pt x="17256" y="17686"/>
                  <a:pt x="17239" y="17686"/>
                </a:cubicBezTo>
                <a:cubicBezTo>
                  <a:pt x="17195" y="17747"/>
                  <a:pt x="17079" y="17928"/>
                  <a:pt x="17140" y="17884"/>
                </a:cubicBezTo>
                <a:cubicBezTo>
                  <a:pt x="17165" y="17859"/>
                  <a:pt x="17189" y="17835"/>
                  <a:pt x="17214" y="17810"/>
                </a:cubicBezTo>
              </a:path>
              <a:path w="2234" h="1414">
                <a:moveTo>
                  <a:pt x="17388" y="17438"/>
                </a:moveTo>
                <a:cubicBezTo>
                  <a:pt x="17441" y="17395"/>
                  <a:pt x="17469" y="17388"/>
                  <a:pt x="17537" y="17388"/>
                </a:cubicBezTo>
                <a:cubicBezTo>
                  <a:pt x="17693" y="17388"/>
                  <a:pt x="17563" y="17530"/>
                  <a:pt x="17537" y="17562"/>
                </a:cubicBezTo>
                <a:cubicBezTo>
                  <a:pt x="17497" y="17621"/>
                  <a:pt x="17493" y="17633"/>
                  <a:pt x="17462" y="17661"/>
                </a:cubicBezTo>
                <a:cubicBezTo>
                  <a:pt x="17513" y="17681"/>
                  <a:pt x="17588" y="17661"/>
                  <a:pt x="17661" y="17661"/>
                </a:cubicBezTo>
                <a:cubicBezTo>
                  <a:pt x="17669" y="17661"/>
                  <a:pt x="17678" y="17661"/>
                  <a:pt x="17686" y="17661"/>
                </a:cubicBezTo>
              </a:path>
              <a:path w="2234" h="1414">
                <a:moveTo>
                  <a:pt x="17115" y="18008"/>
                </a:moveTo>
                <a:cubicBezTo>
                  <a:pt x="17282" y="17925"/>
                  <a:pt x="17451" y="17890"/>
                  <a:pt x="17636" y="17859"/>
                </a:cubicBezTo>
                <a:cubicBezTo>
                  <a:pt x="17664" y="17859"/>
                  <a:pt x="17675" y="17861"/>
                  <a:pt x="17686" y="17884"/>
                </a:cubicBezTo>
              </a:path>
              <a:path w="2234" h="1414">
                <a:moveTo>
                  <a:pt x="17413" y="18132"/>
                </a:moveTo>
                <a:cubicBezTo>
                  <a:pt x="17436" y="18065"/>
                  <a:pt x="17447" y="18047"/>
                  <a:pt x="17413" y="18008"/>
                </a:cubicBezTo>
                <a:cubicBezTo>
                  <a:pt x="17313" y="18008"/>
                  <a:pt x="17276" y="18099"/>
                  <a:pt x="17239" y="18182"/>
                </a:cubicBezTo>
                <a:cubicBezTo>
                  <a:pt x="17204" y="18259"/>
                  <a:pt x="17395" y="18145"/>
                  <a:pt x="17413" y="18132"/>
                </a:cubicBezTo>
                <a:cubicBezTo>
                  <a:pt x="17413" y="18224"/>
                  <a:pt x="17391" y="18312"/>
                  <a:pt x="17388" y="18405"/>
                </a:cubicBezTo>
                <a:cubicBezTo>
                  <a:pt x="17386" y="18462"/>
                  <a:pt x="17404" y="18466"/>
                  <a:pt x="17363" y="18479"/>
                </a:cubicBezTo>
              </a:path>
              <a:path w="2234" h="1414">
                <a:moveTo>
                  <a:pt x="17835" y="17562"/>
                </a:moveTo>
                <a:cubicBezTo>
                  <a:pt x="17882" y="17562"/>
                  <a:pt x="17915" y="17546"/>
                  <a:pt x="17959" y="17537"/>
                </a:cubicBezTo>
              </a:path>
              <a:path w="2234" h="1414">
                <a:moveTo>
                  <a:pt x="17909" y="17413"/>
                </a:moveTo>
                <a:cubicBezTo>
                  <a:pt x="17909" y="17471"/>
                  <a:pt x="17909" y="17512"/>
                  <a:pt x="17909" y="17562"/>
                </a:cubicBezTo>
              </a:path>
              <a:path w="2234" h="1414">
                <a:moveTo>
                  <a:pt x="18107" y="17462"/>
                </a:moveTo>
                <a:cubicBezTo>
                  <a:pt x="18180" y="17438"/>
                  <a:pt x="18204" y="17430"/>
                  <a:pt x="18256" y="17438"/>
                </a:cubicBezTo>
                <a:cubicBezTo>
                  <a:pt x="18245" y="17559"/>
                  <a:pt x="18215" y="17631"/>
                  <a:pt x="18157" y="17735"/>
                </a:cubicBezTo>
                <a:cubicBezTo>
                  <a:pt x="18216" y="17727"/>
                  <a:pt x="18336" y="17716"/>
                  <a:pt x="18306" y="17686"/>
                </a:cubicBezTo>
              </a:path>
              <a:path w="2234" h="1414">
                <a:moveTo>
                  <a:pt x="16991" y="17562"/>
                </a:moveTo>
                <a:cubicBezTo>
                  <a:pt x="16983" y="17554"/>
                  <a:pt x="16974" y="17545"/>
                  <a:pt x="16966" y="17537"/>
                </a:cubicBezTo>
                <a:cubicBezTo>
                  <a:pt x="17038" y="17537"/>
                  <a:pt x="17119" y="17551"/>
                  <a:pt x="17190" y="17562"/>
                </a:cubicBezTo>
                <a:cubicBezTo>
                  <a:pt x="17341" y="17585"/>
                  <a:pt x="17487" y="17610"/>
                  <a:pt x="17636" y="17636"/>
                </a:cubicBezTo>
                <a:cubicBezTo>
                  <a:pt x="17854" y="17674"/>
                  <a:pt x="18170" y="17660"/>
                  <a:pt x="18380" y="17611"/>
                </a:cubicBezTo>
                <a:cubicBezTo>
                  <a:pt x="18405" y="17611"/>
                  <a:pt x="18413" y="17611"/>
                  <a:pt x="18430" y="17611"/>
                </a:cubicBezTo>
              </a:path>
              <a:path w="2234" h="1414">
                <a:moveTo>
                  <a:pt x="17611" y="17115"/>
                </a:moveTo>
                <a:cubicBezTo>
                  <a:pt x="17570" y="17115"/>
                  <a:pt x="17718" y="17075"/>
                  <a:pt x="17760" y="17066"/>
                </a:cubicBezTo>
                <a:cubicBezTo>
                  <a:pt x="17780" y="17183"/>
                  <a:pt x="17760" y="17159"/>
                  <a:pt x="17711" y="17239"/>
                </a:cubicBezTo>
                <a:cubicBezTo>
                  <a:pt x="17711" y="17247"/>
                  <a:pt x="17711" y="17256"/>
                  <a:pt x="17711" y="17264"/>
                </a:cubicBezTo>
                <a:cubicBezTo>
                  <a:pt x="17789" y="17204"/>
                  <a:pt x="17814" y="17285"/>
                  <a:pt x="17785" y="17363"/>
                </a:cubicBezTo>
                <a:cubicBezTo>
                  <a:pt x="17771" y="17400"/>
                  <a:pt x="17650" y="17477"/>
                  <a:pt x="17611" y="17438"/>
                </a:cubicBezTo>
                <a:cubicBezTo>
                  <a:pt x="17611" y="17430"/>
                  <a:pt x="17611" y="17421"/>
                  <a:pt x="17611" y="17413"/>
                </a:cubicBezTo>
              </a:path>
              <a:path w="2234" h="1414">
                <a:moveTo>
                  <a:pt x="17959" y="17066"/>
                </a:moveTo>
                <a:cubicBezTo>
                  <a:pt x="17977" y="17175"/>
                  <a:pt x="18001" y="17276"/>
                  <a:pt x="18008" y="17388"/>
                </a:cubicBezTo>
                <a:cubicBezTo>
                  <a:pt x="18008" y="17281"/>
                  <a:pt x="18008" y="17173"/>
                  <a:pt x="18008" y="17066"/>
                </a:cubicBezTo>
              </a:path>
              <a:path w="2234" h="1414">
                <a:moveTo>
                  <a:pt x="19025" y="17959"/>
                </a:moveTo>
                <a:cubicBezTo>
                  <a:pt x="19083" y="17954"/>
                  <a:pt x="19183" y="17910"/>
                  <a:pt x="19199" y="17959"/>
                </a:cubicBezTo>
              </a:path>
              <a:path w="2234" h="1414">
                <a:moveTo>
                  <a:pt x="19025" y="18107"/>
                </a:moveTo>
                <a:cubicBezTo>
                  <a:pt x="19085" y="18117"/>
                  <a:pt x="19136" y="18132"/>
                  <a:pt x="19199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52960" y="6634080"/>
            <a:ext cx="411120" cy="21600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11584" y="18976"/>
                </a:moveTo>
                <a:cubicBezTo>
                  <a:pt x="11556" y="18976"/>
                  <a:pt x="11545" y="18974"/>
                  <a:pt x="11534" y="18951"/>
                </a:cubicBezTo>
                <a:cubicBezTo>
                  <a:pt x="11542" y="18981"/>
                  <a:pt x="11551" y="18995"/>
                  <a:pt x="11559" y="19025"/>
                </a:cubicBezTo>
                <a:cubicBezTo>
                  <a:pt x="11584" y="19025"/>
                  <a:pt x="11592" y="19025"/>
                  <a:pt x="11609" y="19025"/>
                </a:cubicBezTo>
              </a:path>
              <a:path w="1142" h="596">
                <a:moveTo>
                  <a:pt x="11658" y="18876"/>
                </a:moveTo>
                <a:cubicBezTo>
                  <a:pt x="11684" y="18911"/>
                  <a:pt x="11683" y="18907"/>
                  <a:pt x="11683" y="18951"/>
                </a:cubicBezTo>
                <a:cubicBezTo>
                  <a:pt x="11708" y="18951"/>
                  <a:pt x="11716" y="18951"/>
                  <a:pt x="11708" y="18976"/>
                </a:cubicBezTo>
              </a:path>
              <a:path w="1142" h="596">
                <a:moveTo>
                  <a:pt x="11807" y="18976"/>
                </a:moveTo>
                <a:cubicBezTo>
                  <a:pt x="11855" y="18958"/>
                  <a:pt x="11966" y="19002"/>
                  <a:pt x="11956" y="18951"/>
                </a:cubicBezTo>
                <a:cubicBezTo>
                  <a:pt x="11948" y="18943"/>
                  <a:pt x="11939" y="18934"/>
                  <a:pt x="11931" y="18926"/>
                </a:cubicBezTo>
              </a:path>
              <a:path w="1142" h="596">
                <a:moveTo>
                  <a:pt x="11832" y="18926"/>
                </a:moveTo>
                <a:cubicBezTo>
                  <a:pt x="11784" y="18936"/>
                  <a:pt x="11745" y="18939"/>
                  <a:pt x="11733" y="18976"/>
                </a:cubicBezTo>
              </a:path>
              <a:path w="1142" h="596">
                <a:moveTo>
                  <a:pt x="11906" y="18777"/>
                </a:moveTo>
                <a:cubicBezTo>
                  <a:pt x="11915" y="18734"/>
                  <a:pt x="11928" y="18712"/>
                  <a:pt x="11956" y="18678"/>
                </a:cubicBezTo>
                <a:cubicBezTo>
                  <a:pt x="12039" y="18748"/>
                  <a:pt x="11990" y="18758"/>
                  <a:pt x="11956" y="18852"/>
                </a:cubicBezTo>
                <a:cubicBezTo>
                  <a:pt x="11936" y="18906"/>
                  <a:pt x="12028" y="18877"/>
                  <a:pt x="12080" y="18852"/>
                </a:cubicBezTo>
              </a:path>
              <a:path w="1142" h="596">
                <a:moveTo>
                  <a:pt x="12477" y="18430"/>
                </a:moveTo>
                <a:cubicBezTo>
                  <a:pt x="12389" y="18624"/>
                  <a:pt x="12291" y="18811"/>
                  <a:pt x="12154" y="18976"/>
                </a:cubicBezTo>
              </a:path>
              <a:path w="1142" h="596">
                <a:moveTo>
                  <a:pt x="12626" y="18653"/>
                </a:moveTo>
                <a:cubicBezTo>
                  <a:pt x="12565" y="18699"/>
                  <a:pt x="12576" y="18769"/>
                  <a:pt x="12576" y="18852"/>
                </a:cubicBezTo>
                <a:cubicBezTo>
                  <a:pt x="12576" y="18860"/>
                  <a:pt x="12576" y="18868"/>
                  <a:pt x="12576" y="18876"/>
                </a:cubicBezTo>
              </a:path>
              <a:path w="1142" h="596">
                <a:moveTo>
                  <a:pt x="12675" y="18604"/>
                </a:moveTo>
                <a:cubicBezTo>
                  <a:pt x="12675" y="18678"/>
                  <a:pt x="12675" y="18753"/>
                  <a:pt x="12675" y="18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75040" y="4599000"/>
            <a:ext cx="1251000" cy="536400"/>
          </a:xfrm>
          <a:custGeom>
            <a:avLst/>
            <a:gdLst/>
            <a:ahLst/>
            <a:rect l="l" t="t" r="r" b="b"/>
            <a:pathLst>
              <a:path w="3474" h="1490">
                <a:moveTo>
                  <a:pt x="11311" y="12774"/>
                </a:moveTo>
                <a:cubicBezTo>
                  <a:pt x="11194" y="12794"/>
                  <a:pt x="11086" y="12799"/>
                  <a:pt x="10964" y="12799"/>
                </a:cubicBezTo>
                <a:cubicBezTo>
                  <a:pt x="10918" y="12799"/>
                  <a:pt x="10939" y="12942"/>
                  <a:pt x="10939" y="12973"/>
                </a:cubicBezTo>
                <a:cubicBezTo>
                  <a:pt x="10939" y="12998"/>
                  <a:pt x="10939" y="13022"/>
                  <a:pt x="10939" y="13047"/>
                </a:cubicBezTo>
                <a:cubicBezTo>
                  <a:pt x="11042" y="13026"/>
                  <a:pt x="11130" y="12941"/>
                  <a:pt x="11237" y="12923"/>
                </a:cubicBezTo>
                <a:cubicBezTo>
                  <a:pt x="11286" y="12923"/>
                  <a:pt x="11336" y="12923"/>
                  <a:pt x="11385" y="12923"/>
                </a:cubicBezTo>
                <a:cubicBezTo>
                  <a:pt x="11437" y="13098"/>
                  <a:pt x="11411" y="13261"/>
                  <a:pt x="11187" y="13320"/>
                </a:cubicBezTo>
                <a:cubicBezTo>
                  <a:pt x="11121" y="13337"/>
                  <a:pt x="10996" y="13328"/>
                  <a:pt x="10964" y="13295"/>
                </a:cubicBezTo>
              </a:path>
              <a:path w="3474" h="1490">
                <a:moveTo>
                  <a:pt x="10765" y="13543"/>
                </a:moveTo>
                <a:cubicBezTo>
                  <a:pt x="11074" y="13472"/>
                  <a:pt x="11386" y="13367"/>
                  <a:pt x="11708" y="13395"/>
                </a:cubicBezTo>
                <a:cubicBezTo>
                  <a:pt x="11765" y="13414"/>
                  <a:pt x="11808" y="13422"/>
                  <a:pt x="11757" y="13419"/>
                </a:cubicBezTo>
              </a:path>
              <a:path w="3474" h="1490">
                <a:moveTo>
                  <a:pt x="11435" y="13717"/>
                </a:moveTo>
                <a:cubicBezTo>
                  <a:pt x="11288" y="13738"/>
                  <a:pt x="11181" y="13804"/>
                  <a:pt x="11063" y="13891"/>
                </a:cubicBezTo>
                <a:cubicBezTo>
                  <a:pt x="11055" y="13899"/>
                  <a:pt x="11046" y="13907"/>
                  <a:pt x="11038" y="13915"/>
                </a:cubicBezTo>
                <a:cubicBezTo>
                  <a:pt x="11141" y="13948"/>
                  <a:pt x="11528" y="13967"/>
                  <a:pt x="11460" y="14163"/>
                </a:cubicBezTo>
                <a:cubicBezTo>
                  <a:pt x="11371" y="14253"/>
                  <a:pt x="11351" y="14287"/>
                  <a:pt x="11261" y="14263"/>
                </a:cubicBezTo>
                <a:cubicBezTo>
                  <a:pt x="11194" y="14072"/>
                  <a:pt x="11280" y="13989"/>
                  <a:pt x="11385" y="13816"/>
                </a:cubicBezTo>
                <a:cubicBezTo>
                  <a:pt x="11407" y="13773"/>
                  <a:pt x="11411" y="13761"/>
                  <a:pt x="11435" y="13742"/>
                </a:cubicBezTo>
              </a:path>
              <a:path w="3474" h="1490">
                <a:moveTo>
                  <a:pt x="12005" y="13320"/>
                </a:moveTo>
                <a:cubicBezTo>
                  <a:pt x="12098" y="13413"/>
                  <a:pt x="12182" y="13533"/>
                  <a:pt x="12278" y="13618"/>
                </a:cubicBezTo>
                <a:cubicBezTo>
                  <a:pt x="12296" y="13634"/>
                  <a:pt x="12303" y="13690"/>
                  <a:pt x="12303" y="13643"/>
                </a:cubicBezTo>
              </a:path>
              <a:path w="3474" h="1490">
                <a:moveTo>
                  <a:pt x="12328" y="13196"/>
                </a:moveTo>
                <a:cubicBezTo>
                  <a:pt x="12254" y="13356"/>
                  <a:pt x="12181" y="13523"/>
                  <a:pt x="12129" y="13692"/>
                </a:cubicBezTo>
                <a:cubicBezTo>
                  <a:pt x="12129" y="13717"/>
                  <a:pt x="12129" y="13725"/>
                  <a:pt x="12129" y="13742"/>
                </a:cubicBezTo>
              </a:path>
              <a:path w="3474" h="1490">
                <a:moveTo>
                  <a:pt x="12898" y="12973"/>
                </a:moveTo>
                <a:cubicBezTo>
                  <a:pt x="12898" y="12880"/>
                  <a:pt x="12989" y="12863"/>
                  <a:pt x="13072" y="12849"/>
                </a:cubicBezTo>
                <a:cubicBezTo>
                  <a:pt x="13097" y="12849"/>
                  <a:pt x="13121" y="12849"/>
                  <a:pt x="13146" y="12849"/>
                </a:cubicBezTo>
                <a:cubicBezTo>
                  <a:pt x="13173" y="13022"/>
                  <a:pt x="13127" y="13049"/>
                  <a:pt x="12973" y="13146"/>
                </a:cubicBezTo>
                <a:cubicBezTo>
                  <a:pt x="12953" y="13069"/>
                  <a:pt x="13117" y="13054"/>
                  <a:pt x="13196" y="13097"/>
                </a:cubicBezTo>
                <a:cubicBezTo>
                  <a:pt x="13429" y="13224"/>
                  <a:pt x="13113" y="13358"/>
                  <a:pt x="13022" y="13395"/>
                </a:cubicBezTo>
                <a:cubicBezTo>
                  <a:pt x="12982" y="13415"/>
                  <a:pt x="12975" y="13423"/>
                  <a:pt x="12948" y="13419"/>
                </a:cubicBezTo>
              </a:path>
              <a:path w="3474" h="1490">
                <a:moveTo>
                  <a:pt x="12774" y="13643"/>
                </a:moveTo>
                <a:cubicBezTo>
                  <a:pt x="12988" y="13591"/>
                  <a:pt x="13202" y="13542"/>
                  <a:pt x="13419" y="13519"/>
                </a:cubicBezTo>
              </a:path>
              <a:path w="3474" h="1490">
                <a:moveTo>
                  <a:pt x="12998" y="13742"/>
                </a:moveTo>
                <a:cubicBezTo>
                  <a:pt x="13118" y="13742"/>
                  <a:pt x="13226" y="13723"/>
                  <a:pt x="13345" y="13717"/>
                </a:cubicBezTo>
                <a:cubicBezTo>
                  <a:pt x="13370" y="13717"/>
                  <a:pt x="13378" y="13717"/>
                  <a:pt x="13395" y="13717"/>
                </a:cubicBezTo>
                <a:cubicBezTo>
                  <a:pt x="13395" y="13863"/>
                  <a:pt x="13324" y="13998"/>
                  <a:pt x="13295" y="14139"/>
                </a:cubicBezTo>
                <a:cubicBezTo>
                  <a:pt x="13295" y="14180"/>
                  <a:pt x="13295" y="14188"/>
                  <a:pt x="13295" y="14213"/>
                </a:cubicBezTo>
              </a:path>
              <a:path w="3474" h="1490">
                <a:moveTo>
                  <a:pt x="13891" y="13543"/>
                </a:moveTo>
                <a:cubicBezTo>
                  <a:pt x="14003" y="13543"/>
                  <a:pt x="14102" y="13562"/>
                  <a:pt x="14213" y="13568"/>
                </a:cubicBezTo>
                <a:cubicBezTo>
                  <a:pt x="14221" y="13568"/>
                  <a:pt x="14230" y="13568"/>
                  <a:pt x="1423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9240" y="4375080"/>
            <a:ext cx="750960" cy="911160"/>
          </a:xfrm>
          <a:custGeom>
            <a:avLst/>
            <a:gdLst/>
            <a:ahLst/>
            <a:rect l="l" t="t" r="r" b="b"/>
            <a:pathLst>
              <a:path w="2085" h="2531">
                <a:moveTo>
                  <a:pt x="15205" y="12725"/>
                </a:moveTo>
                <a:cubicBezTo>
                  <a:pt x="15205" y="12874"/>
                  <a:pt x="15227" y="13021"/>
                  <a:pt x="15230" y="13171"/>
                </a:cubicBezTo>
                <a:cubicBezTo>
                  <a:pt x="15230" y="13212"/>
                  <a:pt x="15230" y="13254"/>
                  <a:pt x="15230" y="13295"/>
                </a:cubicBezTo>
              </a:path>
              <a:path w="2085" h="2531">
                <a:moveTo>
                  <a:pt x="15900" y="12526"/>
                </a:moveTo>
                <a:cubicBezTo>
                  <a:pt x="15811" y="12570"/>
                  <a:pt x="15579" y="12589"/>
                  <a:pt x="15528" y="12650"/>
                </a:cubicBezTo>
                <a:cubicBezTo>
                  <a:pt x="15484" y="12703"/>
                  <a:pt x="15498" y="12833"/>
                  <a:pt x="15478" y="12898"/>
                </a:cubicBezTo>
                <a:cubicBezTo>
                  <a:pt x="15597" y="12877"/>
                  <a:pt x="15806" y="12741"/>
                  <a:pt x="15925" y="12774"/>
                </a:cubicBezTo>
                <a:cubicBezTo>
                  <a:pt x="15950" y="12799"/>
                  <a:pt x="15974" y="12824"/>
                  <a:pt x="15999" y="12849"/>
                </a:cubicBezTo>
                <a:cubicBezTo>
                  <a:pt x="15976" y="13066"/>
                  <a:pt x="15901" y="13166"/>
                  <a:pt x="15652" y="13171"/>
                </a:cubicBezTo>
                <a:cubicBezTo>
                  <a:pt x="15619" y="13163"/>
                  <a:pt x="15586" y="13154"/>
                  <a:pt x="15553" y="13146"/>
                </a:cubicBezTo>
              </a:path>
              <a:path w="2085" h="2531">
                <a:moveTo>
                  <a:pt x="15056" y="13395"/>
                </a:moveTo>
                <a:cubicBezTo>
                  <a:pt x="15389" y="13369"/>
                  <a:pt x="15717" y="13282"/>
                  <a:pt x="16049" y="13246"/>
                </a:cubicBezTo>
                <a:cubicBezTo>
                  <a:pt x="16156" y="13246"/>
                  <a:pt x="16164" y="13246"/>
                  <a:pt x="16222" y="13246"/>
                </a:cubicBezTo>
              </a:path>
              <a:path w="2085" h="2531">
                <a:moveTo>
                  <a:pt x="15453" y="13667"/>
                </a:moveTo>
                <a:cubicBezTo>
                  <a:pt x="15528" y="13631"/>
                  <a:pt x="15359" y="13691"/>
                  <a:pt x="15280" y="13717"/>
                </a:cubicBezTo>
                <a:cubicBezTo>
                  <a:pt x="15125" y="13767"/>
                  <a:pt x="15156" y="13740"/>
                  <a:pt x="15156" y="13915"/>
                </a:cubicBezTo>
                <a:cubicBezTo>
                  <a:pt x="15156" y="13923"/>
                  <a:pt x="15156" y="13932"/>
                  <a:pt x="15156" y="13940"/>
                </a:cubicBezTo>
                <a:cubicBezTo>
                  <a:pt x="15245" y="13925"/>
                  <a:pt x="15395" y="13871"/>
                  <a:pt x="15478" y="13940"/>
                </a:cubicBezTo>
                <a:cubicBezTo>
                  <a:pt x="15645" y="14077"/>
                  <a:pt x="15320" y="14234"/>
                  <a:pt x="15230" y="14238"/>
                </a:cubicBezTo>
                <a:cubicBezTo>
                  <a:pt x="15148" y="14217"/>
                  <a:pt x="15132" y="14209"/>
                  <a:pt x="15081" y="14213"/>
                </a:cubicBezTo>
              </a:path>
              <a:path w="2085" h="2531">
                <a:moveTo>
                  <a:pt x="15850" y="13618"/>
                </a:moveTo>
                <a:cubicBezTo>
                  <a:pt x="15814" y="13666"/>
                  <a:pt x="15784" y="13754"/>
                  <a:pt x="15776" y="13816"/>
                </a:cubicBezTo>
                <a:cubicBezTo>
                  <a:pt x="15766" y="13894"/>
                  <a:pt x="15710" y="14039"/>
                  <a:pt x="15726" y="14114"/>
                </a:cubicBezTo>
                <a:cubicBezTo>
                  <a:pt x="15741" y="14185"/>
                  <a:pt x="15772" y="14225"/>
                  <a:pt x="15850" y="14238"/>
                </a:cubicBezTo>
                <a:cubicBezTo>
                  <a:pt x="15957" y="14255"/>
                  <a:pt x="16049" y="14221"/>
                  <a:pt x="16148" y="14188"/>
                </a:cubicBezTo>
                <a:cubicBezTo>
                  <a:pt x="16228" y="14161"/>
                  <a:pt x="16281" y="14152"/>
                  <a:pt x="16297" y="14064"/>
                </a:cubicBezTo>
                <a:cubicBezTo>
                  <a:pt x="16313" y="13977"/>
                  <a:pt x="16273" y="13971"/>
                  <a:pt x="16197" y="13965"/>
                </a:cubicBezTo>
                <a:cubicBezTo>
                  <a:pt x="16134" y="13960"/>
                  <a:pt x="16090" y="13967"/>
                  <a:pt x="16073" y="14039"/>
                </a:cubicBezTo>
                <a:cubicBezTo>
                  <a:pt x="16057" y="14108"/>
                  <a:pt x="16080" y="14160"/>
                  <a:pt x="16098" y="14213"/>
                </a:cubicBezTo>
                <a:cubicBezTo>
                  <a:pt x="16098" y="14221"/>
                  <a:pt x="16098" y="14230"/>
                  <a:pt x="16098" y="14238"/>
                </a:cubicBezTo>
              </a:path>
              <a:path w="2085" h="2531">
                <a:moveTo>
                  <a:pt x="14610" y="13320"/>
                </a:moveTo>
                <a:cubicBezTo>
                  <a:pt x="14630" y="13425"/>
                  <a:pt x="14635" y="13546"/>
                  <a:pt x="14635" y="13667"/>
                </a:cubicBezTo>
                <a:cubicBezTo>
                  <a:pt x="14635" y="13828"/>
                  <a:pt x="14631" y="13941"/>
                  <a:pt x="14684" y="14089"/>
                </a:cubicBezTo>
                <a:cubicBezTo>
                  <a:pt x="14720" y="14192"/>
                  <a:pt x="14785" y="14304"/>
                  <a:pt x="14858" y="14387"/>
                </a:cubicBezTo>
                <a:cubicBezTo>
                  <a:pt x="14913" y="14450"/>
                  <a:pt x="14960" y="14518"/>
                  <a:pt x="15032" y="14560"/>
                </a:cubicBezTo>
                <a:cubicBezTo>
                  <a:pt x="15132" y="14620"/>
                  <a:pt x="15319" y="14677"/>
                  <a:pt x="15429" y="14684"/>
                </a:cubicBezTo>
                <a:cubicBezTo>
                  <a:pt x="15562" y="14692"/>
                  <a:pt x="15695" y="14689"/>
                  <a:pt x="15825" y="14660"/>
                </a:cubicBezTo>
                <a:cubicBezTo>
                  <a:pt x="15959" y="14630"/>
                  <a:pt x="16075" y="14600"/>
                  <a:pt x="16197" y="14536"/>
                </a:cubicBezTo>
                <a:cubicBezTo>
                  <a:pt x="16284" y="14490"/>
                  <a:pt x="16381" y="14438"/>
                  <a:pt x="16446" y="14362"/>
                </a:cubicBezTo>
                <a:cubicBezTo>
                  <a:pt x="16504" y="14294"/>
                  <a:pt x="16557" y="14197"/>
                  <a:pt x="16594" y="14114"/>
                </a:cubicBezTo>
                <a:cubicBezTo>
                  <a:pt x="16638" y="14015"/>
                  <a:pt x="16650" y="13918"/>
                  <a:pt x="16669" y="13816"/>
                </a:cubicBezTo>
                <a:cubicBezTo>
                  <a:pt x="16693" y="13688"/>
                  <a:pt x="16709" y="13550"/>
                  <a:pt x="16694" y="13419"/>
                </a:cubicBezTo>
                <a:cubicBezTo>
                  <a:pt x="16679" y="13289"/>
                  <a:pt x="16689" y="13150"/>
                  <a:pt x="16669" y="13022"/>
                </a:cubicBezTo>
                <a:cubicBezTo>
                  <a:pt x="16647" y="12882"/>
                  <a:pt x="16643" y="12740"/>
                  <a:pt x="16619" y="12601"/>
                </a:cubicBezTo>
                <a:cubicBezTo>
                  <a:pt x="16597" y="12474"/>
                  <a:pt x="16586" y="12428"/>
                  <a:pt x="16520" y="12328"/>
                </a:cubicBezTo>
                <a:cubicBezTo>
                  <a:pt x="16457" y="12233"/>
                  <a:pt x="16364" y="12169"/>
                  <a:pt x="16247" y="12154"/>
                </a:cubicBezTo>
                <a:cubicBezTo>
                  <a:pt x="16068" y="12131"/>
                  <a:pt x="15901" y="12190"/>
                  <a:pt x="15726" y="12204"/>
                </a:cubicBezTo>
                <a:cubicBezTo>
                  <a:pt x="15577" y="12216"/>
                  <a:pt x="15499" y="12219"/>
                  <a:pt x="15379" y="12303"/>
                </a:cubicBezTo>
                <a:cubicBezTo>
                  <a:pt x="15287" y="12368"/>
                  <a:pt x="15249" y="12441"/>
                  <a:pt x="15180" y="12526"/>
                </a:cubicBezTo>
                <a:cubicBezTo>
                  <a:pt x="15122" y="12596"/>
                  <a:pt x="15051" y="12652"/>
                  <a:pt x="15007" y="12725"/>
                </a:cubicBezTo>
                <a:cubicBezTo>
                  <a:pt x="14964" y="12797"/>
                  <a:pt x="14940" y="12898"/>
                  <a:pt x="14908" y="12973"/>
                </a:cubicBezTo>
                <a:cubicBezTo>
                  <a:pt x="14880" y="13038"/>
                  <a:pt x="14875" y="13104"/>
                  <a:pt x="14858" y="13171"/>
                </a:cubicBezTo>
                <a:cubicBezTo>
                  <a:pt x="14829" y="13286"/>
                  <a:pt x="14775" y="13401"/>
                  <a:pt x="14759" y="13519"/>
                </a:cubicBezTo>
                <a:cubicBezTo>
                  <a:pt x="14749" y="13593"/>
                  <a:pt x="14788" y="13627"/>
                  <a:pt x="14784" y="13692"/>
                </a:cubicBezTo>
                <a:cubicBezTo>
                  <a:pt x="14780" y="13761"/>
                  <a:pt x="14755" y="13822"/>
                  <a:pt x="14734" y="13891"/>
                </a:cubicBezTo>
                <a:cubicBezTo>
                  <a:pt x="14707" y="13981"/>
                  <a:pt x="14700" y="14036"/>
                  <a:pt x="14734" y="14114"/>
                </a:cubicBezTo>
                <a:cubicBezTo>
                  <a:pt x="14734" y="14147"/>
                  <a:pt x="14734" y="14147"/>
                  <a:pt x="14734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5200" y="6134040"/>
            <a:ext cx="482760" cy="447840"/>
          </a:xfrm>
          <a:custGeom>
            <a:avLst/>
            <a:gdLst/>
            <a:ahLst/>
            <a:rect l="l" t="t" r="r" b="b"/>
            <a:pathLst>
              <a:path w="1340" h="1241">
                <a:moveTo>
                  <a:pt x="19571" y="17314"/>
                </a:moveTo>
                <a:cubicBezTo>
                  <a:pt x="19668" y="17295"/>
                  <a:pt x="19768" y="17254"/>
                  <a:pt x="19869" y="17239"/>
                </a:cubicBezTo>
                <a:cubicBezTo>
                  <a:pt x="19980" y="17222"/>
                  <a:pt x="19966" y="17294"/>
                  <a:pt x="19968" y="17388"/>
                </a:cubicBezTo>
                <a:cubicBezTo>
                  <a:pt x="19969" y="17414"/>
                  <a:pt x="19939" y="17673"/>
                  <a:pt x="19993" y="17661"/>
                </a:cubicBezTo>
                <a:cubicBezTo>
                  <a:pt x="20018" y="17653"/>
                  <a:pt x="20042" y="17644"/>
                  <a:pt x="20067" y="17636"/>
                </a:cubicBezTo>
              </a:path>
              <a:path w="1340" h="1241">
                <a:moveTo>
                  <a:pt x="20265" y="17115"/>
                </a:moveTo>
                <a:cubicBezTo>
                  <a:pt x="20273" y="17256"/>
                  <a:pt x="20279" y="17404"/>
                  <a:pt x="20315" y="17537"/>
                </a:cubicBezTo>
              </a:path>
              <a:path w="1340" h="1241">
                <a:moveTo>
                  <a:pt x="20489" y="17115"/>
                </a:moveTo>
                <a:cubicBezTo>
                  <a:pt x="20510" y="17051"/>
                  <a:pt x="20612" y="17025"/>
                  <a:pt x="20687" y="17066"/>
                </a:cubicBezTo>
                <a:cubicBezTo>
                  <a:pt x="20808" y="17132"/>
                  <a:pt x="20684" y="17280"/>
                  <a:pt x="20638" y="17338"/>
                </a:cubicBezTo>
                <a:cubicBezTo>
                  <a:pt x="20718" y="17322"/>
                  <a:pt x="20757" y="17305"/>
                  <a:pt x="20811" y="17413"/>
                </a:cubicBezTo>
                <a:cubicBezTo>
                  <a:pt x="20811" y="17429"/>
                  <a:pt x="20811" y="17446"/>
                  <a:pt x="20811" y="17462"/>
                </a:cubicBezTo>
                <a:cubicBezTo>
                  <a:pt x="20744" y="17541"/>
                  <a:pt x="20685" y="17529"/>
                  <a:pt x="20588" y="17562"/>
                </a:cubicBezTo>
              </a:path>
              <a:path w="1340" h="1241">
                <a:moveTo>
                  <a:pt x="19745" y="17859"/>
                </a:moveTo>
                <a:cubicBezTo>
                  <a:pt x="19925" y="17788"/>
                  <a:pt x="20123" y="17803"/>
                  <a:pt x="20315" y="17785"/>
                </a:cubicBezTo>
                <a:cubicBezTo>
                  <a:pt x="20493" y="17769"/>
                  <a:pt x="20659" y="17760"/>
                  <a:pt x="20836" y="17760"/>
                </a:cubicBezTo>
                <a:cubicBezTo>
                  <a:pt x="20881" y="17760"/>
                  <a:pt x="20898" y="17747"/>
                  <a:pt x="20910" y="17785"/>
                </a:cubicBezTo>
              </a:path>
              <a:path w="1340" h="1241">
                <a:moveTo>
                  <a:pt x="20141" y="17909"/>
                </a:moveTo>
                <a:cubicBezTo>
                  <a:pt x="20141" y="18027"/>
                  <a:pt x="20161" y="18138"/>
                  <a:pt x="20166" y="18256"/>
                </a:cubicBezTo>
                <a:cubicBezTo>
                  <a:pt x="20169" y="18314"/>
                  <a:pt x="20228" y="18226"/>
                  <a:pt x="20265" y="18182"/>
                </a:cubicBezTo>
              </a:path>
              <a:path w="1340" h="1241">
                <a:moveTo>
                  <a:pt x="20563" y="17785"/>
                </a:moveTo>
                <a:cubicBezTo>
                  <a:pt x="20489" y="17843"/>
                  <a:pt x="20430" y="17893"/>
                  <a:pt x="20365" y="17959"/>
                </a:cubicBezTo>
                <a:cubicBezTo>
                  <a:pt x="20382" y="18084"/>
                  <a:pt x="20488" y="18046"/>
                  <a:pt x="20563" y="18132"/>
                </a:cubicBezTo>
                <a:cubicBezTo>
                  <a:pt x="20588" y="18207"/>
                  <a:pt x="20596" y="18231"/>
                  <a:pt x="20563" y="18281"/>
                </a:cubicBezTo>
                <a:cubicBezTo>
                  <a:pt x="20417" y="18281"/>
                  <a:pt x="20472" y="18164"/>
                  <a:pt x="20513" y="18058"/>
                </a:cubicBezTo>
                <a:cubicBezTo>
                  <a:pt x="20554" y="17977"/>
                  <a:pt x="20571" y="17964"/>
                  <a:pt x="20563" y="17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43000" y="5680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 Practice comple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61 Riddle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61 problems e and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523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60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1:06:50Z</dcterms:created>
  <dc:creator>Brian McGrath</dc:creator>
  <dc:description/>
  <dc:language>en-US</dc:language>
  <cp:lastModifiedBy>deanne elizabeth mcgrath</cp:lastModifiedBy>
  <dcterms:modified xsi:type="dcterms:W3CDTF">2011-10-26T18:52:06Z</dcterms:modified>
  <cp:revision>6</cp:revision>
  <dc:subject/>
  <dc:title>Warm - up:</dc:title>
</cp:coreProperties>
</file>